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3422-83AD-4B5B-9094-9C1C07765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5EE2-BD1A-40F0-9D8C-1D1D6D59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D6CA6-28C1-4683-9365-9C1BD599F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B837D-8855-4B47-892C-583E6D401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890E4-5D49-49D2-9B9D-E95265E04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E674B-6742-4ABB-99B0-3841F5315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A64FA-4439-4956-BB0A-AF41522FD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F6949-A1D6-454A-819B-B80C81DB1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94261-168E-4E3C-9C55-6996F5EB1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D4B28-B054-456F-B499-7E796E5F0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24AB9-D053-4235-8420-4FD39AD6A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89E0-FC41-4998-AB52-0326B5029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A8D87-75D3-4EF5-8238-EEF0C7FC3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AC3A1-83F0-4A01-8D7D-FC2B53414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4E4C3-8A33-4EB4-8012-7F9668B2B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566F0-9F31-4428-90D0-6B4A74F17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6879B-4DE1-4054-9847-0635D38E4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05F4D9-2340-4651-B796-9EF357600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38317-8AC9-4747-80BB-B627BFFE0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565A4-4BD7-4791-871C-18C4A7718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30259-9A56-42F5-846B-928688C77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A79EB-FBBA-4665-969B-30B18C3F2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1D35-3B46-4F2A-BD64-847942E3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18A1F-8541-44FD-8FDC-4A5493880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80CF6-4FDB-4681-B972-69307988C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4FAAF-DBEF-4B6E-A786-863E99E1E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C8A2F-C61B-44FE-AC86-0F2DF94A3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4CDBC-9411-46DE-A6E0-C791F94C3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DE476-7796-4C36-A186-5C7EE0C6E8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1B4BE-FA95-4778-91FD-6042197C21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65B4-6190-4D62-A9AC-60D86154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4531C-4782-4AC5-8E16-5A3B1756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8146-6755-4151-9412-17E2EDE48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8A21-2D39-4BFB-B992-CAC45856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A17B-7287-4D19-BE90-7F4D9A44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96E5-B50B-4519-9F4D-EAFE8DBB2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7D78-9675-4257-A040-0E56BDD548E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9371-7422-45A2-8F4F-7CBA54DADA0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A2F0-55CE-4F2D-8C50-8CD3555A0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veryculture.com/" TargetMode="External"/><Relationship Id="rId2" Type="http://schemas.openxmlformats.org/officeDocument/2006/relationships/hyperlink" Target="http://www.google.com/" TargetMode="External"/><Relationship Id="rId3" Type="http://schemas.openxmlformats.org/officeDocument/2006/relationships/hyperlink" Target="http://www.wikipedia.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zambique</a:t>
            </a:r>
            <a:endParaRPr b="0" lang="en-US" sz="4400" spc="-1" strike="noStrike">
              <a:solidFill>
                <a:srgbClr val="000000"/>
              </a:solidFill>
              <a:latin typeface="Arial"/>
            </a:endParaRPr>
          </a:p>
        </p:txBody>
      </p:sp>
      <p:sp>
        <p:nvSpPr>
          <p:cNvPr id="131" name="PlaceHolder 2"/>
          <p:cNvSpPr>
            <a:spLocks noGrp="1"/>
          </p:cNvSpPr>
          <p:nvPr>
            <p:ph type="subTitle"/>
          </p:nvPr>
        </p:nvSpPr>
        <p:spPr>
          <a:xfrm>
            <a:off x="0" y="3885840"/>
            <a:ext cx="91440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urtis Hick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Food</a:t>
            </a:r>
            <a:endParaRPr b="0" lang="en-US" sz="4400" spc="-1" strike="noStrike">
              <a:solidFill>
                <a:srgbClr val="ffffff"/>
              </a:solidFill>
              <a:latin typeface="Times New Roman"/>
            </a:endParaRPr>
          </a:p>
        </p:txBody>
      </p:sp>
      <p:sp>
        <p:nvSpPr>
          <p:cNvPr id="1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Corn is an important staple food; both corn and cassava were introduced from the Americas by the Portuguese. Cashews, pineapple, and peanuts, which are other important foods, found their way to Mozambique in the same way.</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Along the coast, the cuisine is more varied than it is in the areas that are more inland. The diet there includes more fruit and rice as well as seafood dishes such as </a:t>
            </a:r>
            <a:r>
              <a:rPr b="0" i="1" lang="en-US" sz="2200" spc="-1" strike="noStrike">
                <a:solidFill>
                  <a:srgbClr val="990000"/>
                </a:solidFill>
                <a:latin typeface="Arial"/>
              </a:rPr>
              <a:t>macaza</a:t>
            </a:r>
            <a:r>
              <a:rPr b="0" lang="en-US" sz="2200" spc="-1" strike="noStrike">
                <a:solidFill>
                  <a:srgbClr val="990000"/>
                </a:solidFill>
                <a:latin typeface="Arial"/>
              </a:rPr>
              <a:t> (grilled shellfish kabobs), </a:t>
            </a:r>
            <a:r>
              <a:rPr b="0" i="1" lang="en-US" sz="2200" spc="-1" strike="noStrike">
                <a:solidFill>
                  <a:srgbClr val="990000"/>
                </a:solidFill>
                <a:latin typeface="Arial"/>
              </a:rPr>
              <a:t>bacalhão</a:t>
            </a:r>
            <a:r>
              <a:rPr b="0" lang="en-US" sz="2200" spc="-1" strike="noStrike">
                <a:solidFill>
                  <a:srgbClr val="990000"/>
                </a:solidFill>
                <a:latin typeface="Arial"/>
              </a:rPr>
              <a:t> (dried salted cod) and </a:t>
            </a:r>
            <a:r>
              <a:rPr b="0" i="1" lang="en-US" sz="2200" spc="-1" strike="noStrike">
                <a:solidFill>
                  <a:srgbClr val="990000"/>
                </a:solidFill>
                <a:latin typeface="Arial"/>
              </a:rPr>
              <a:t>chocos </a:t>
            </a:r>
            <a:r>
              <a:rPr b="0" lang="en-US" sz="2200" spc="-1" strike="noStrike">
                <a:solidFill>
                  <a:srgbClr val="990000"/>
                </a:solidFill>
                <a:latin typeface="Arial"/>
              </a:rPr>
              <a:t>(squid cooked in its own ink). Food is seasoned with peppers, onions, and coconut. Palm wine (</a:t>
            </a:r>
            <a:r>
              <a:rPr b="0" i="1" lang="en-US" sz="2200" spc="-1" strike="noStrike">
                <a:solidFill>
                  <a:srgbClr val="990000"/>
                </a:solidFill>
                <a:latin typeface="Arial"/>
              </a:rPr>
              <a:t>shema</a:t>
            </a:r>
            <a:r>
              <a:rPr b="0" lang="en-US" sz="2200" spc="-1" strike="noStrike">
                <a:solidFill>
                  <a:srgbClr val="990000"/>
                </a:solidFill>
                <a:latin typeface="Arial"/>
              </a:rPr>
              <a:t>) is a widely liked drin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tes I got the info from</a:t>
            </a: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1"/>
              </a:rPr>
              <a:t>http://www.everyculture.co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2"/>
              </a:rPr>
              <a:t>http://www.google.co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3"/>
              </a:rPr>
              <a:t>http://www.wikipedia.com</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GOOGLE ROCK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zambique's Relative Location </a:t>
            </a:r>
            <a:endParaRPr b="0" lang="en-US" sz="4400" spc="-1" strike="noStrike">
              <a:solidFill>
                <a:srgbClr val="ffffff"/>
              </a:solidFill>
              <a:latin typeface="Times New Roman"/>
            </a:endParaRPr>
          </a:p>
        </p:txBody>
      </p:sp>
      <p:sp>
        <p:nvSpPr>
          <p:cNvPr id="133"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stretches along Africa's southeast coast. Tanzania is to the north; Malawi, Zambia, and Zimbabwe to the west; and South Africa and Swaziland to the south. The country is a low-lying plateau broken up by 25 large rivers that flow into the Indian Ocean.</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134" name="" descr="Map of Mozambique"/>
          <p:cNvPicPr/>
          <p:nvPr/>
        </p:nvPicPr>
        <p:blipFill>
          <a:blip r:embed="rId1"/>
          <a:stretch/>
        </p:blipFill>
        <p:spPr>
          <a:xfrm>
            <a:off x="5037120" y="4572000"/>
            <a:ext cx="123516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s and Exports</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Exports:</a:t>
            </a:r>
            <a:r>
              <a:rPr b="0" lang="en-US" sz="3100" spc="-1" strike="noStrike">
                <a:solidFill>
                  <a:srgbClr val="990000"/>
                </a:solidFill>
                <a:latin typeface="Arial"/>
              </a:rPr>
              <a:t> (2007) aluminum, prawns, cashews, cotton, sugar, citrus, timber; bulk electric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0000"/>
                </a:solidFill>
                <a:latin typeface="Arial"/>
              </a:rPr>
              <a:t>Imports: </a:t>
            </a:r>
            <a:r>
              <a:rPr b="0" lang="en-US" sz="3100" spc="-1" strike="noStrike">
                <a:solidFill>
                  <a:srgbClr val="990000"/>
                </a:solidFill>
                <a:latin typeface="Arial"/>
              </a:rPr>
              <a:t>(2007) machinery and equipment, vehicles, fuel, chemicals, metal products, food, textil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zambique’s Historic Facts</a:t>
            </a:r>
            <a:endParaRPr b="0" lang="en-US" sz="44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It was explored by Vasco da Gama in 1498 and first colonized by Portugal in 1505.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Guerrilla activity began in 1963 and became so effective by 1973 that Portugal was forced to dispatch 40,000 troops to fight the rebels.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On Jan. 25, 1985, the government was locked in a paralyzing war with antigovernment guerrillas fight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and map</a:t>
            </a:r>
            <a:endParaRPr b="0" lang="en-US" sz="4400" spc="-1" strike="noStrike">
              <a:solidFill>
                <a:srgbClr val="ffffff"/>
              </a:solidFill>
              <a:latin typeface="Times New Roman"/>
            </a:endParaRPr>
          </a:p>
        </p:txBody>
      </p:sp>
      <p:sp>
        <p:nvSpPr>
          <p:cNvPr id="14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Is about the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Size of</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Californ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And 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1,535 mi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Long.</a:t>
            </a:r>
            <a:endParaRPr b="0" lang="en-US" sz="3100" spc="-1" strike="noStrike">
              <a:solidFill>
                <a:srgbClr val="ffffff"/>
              </a:solidFill>
              <a:latin typeface="Arial"/>
            </a:endParaRPr>
          </a:p>
        </p:txBody>
      </p:sp>
      <p:pic>
        <p:nvPicPr>
          <p:cNvPr id="141" name="" descr=""/>
          <p:cNvPicPr/>
          <p:nvPr/>
        </p:nvPicPr>
        <p:blipFill>
          <a:blip r:embed="rId1"/>
          <a:stretch/>
        </p:blipFill>
        <p:spPr>
          <a:xfrm>
            <a:off x="3276720" y="380880"/>
            <a:ext cx="5236920" cy="5791320"/>
          </a:xfrm>
          <a:prstGeom prst="rect">
            <a:avLst/>
          </a:prstGeom>
          <a:ln w="0">
            <a:noFill/>
          </a:ln>
        </p:spPr>
      </p:pic>
      <p:sp>
        <p:nvSpPr>
          <p:cNvPr id="142" name=""/>
          <p:cNvSpPr/>
          <p:nvPr/>
        </p:nvSpPr>
        <p:spPr>
          <a:xfrm>
            <a:off x="6415200" y="3708360"/>
            <a:ext cx="1393560" cy="1843200"/>
          </a:xfrm>
          <a:custGeom>
            <a:avLst/>
            <a:gdLst/>
            <a:ahLst/>
            <a:rect l="l" t="t" r="r" b="b"/>
            <a:pathLst>
              <a:path w="3870" h="5121">
                <a:moveTo>
                  <a:pt x="20697" y="11609"/>
                </a:moveTo>
                <a:cubicBezTo>
                  <a:pt x="20629" y="11609"/>
                  <a:pt x="20556" y="11623"/>
                  <a:pt x="20499" y="11628"/>
                </a:cubicBezTo>
                <a:cubicBezTo>
                  <a:pt x="20435" y="11633"/>
                  <a:pt x="20377" y="11627"/>
                  <a:pt x="20340" y="11648"/>
                </a:cubicBezTo>
                <a:cubicBezTo>
                  <a:pt x="20326" y="11656"/>
                  <a:pt x="20307" y="11685"/>
                  <a:pt x="20300" y="11688"/>
                </a:cubicBezTo>
                <a:cubicBezTo>
                  <a:pt x="20276" y="11698"/>
                  <a:pt x="20246" y="11699"/>
                  <a:pt x="20221" y="11708"/>
                </a:cubicBezTo>
                <a:cubicBezTo>
                  <a:pt x="20196" y="11717"/>
                  <a:pt x="20185" y="11716"/>
                  <a:pt x="20161" y="11728"/>
                </a:cubicBezTo>
                <a:cubicBezTo>
                  <a:pt x="20131" y="11743"/>
                  <a:pt x="20116" y="11760"/>
                  <a:pt x="20082" y="11767"/>
                </a:cubicBezTo>
                <a:cubicBezTo>
                  <a:pt x="20010" y="11781"/>
                  <a:pt x="19869" y="11783"/>
                  <a:pt x="19824" y="11787"/>
                </a:cubicBezTo>
                <a:cubicBezTo>
                  <a:pt x="19765" y="11792"/>
                  <a:pt x="19718" y="11788"/>
                  <a:pt x="19685" y="11807"/>
                </a:cubicBezTo>
                <a:cubicBezTo>
                  <a:pt x="19656" y="11823"/>
                  <a:pt x="19636" y="11815"/>
                  <a:pt x="19625" y="11847"/>
                </a:cubicBezTo>
                <a:cubicBezTo>
                  <a:pt x="19603" y="11912"/>
                  <a:pt x="19631" y="12011"/>
                  <a:pt x="19645" y="12065"/>
                </a:cubicBezTo>
                <a:cubicBezTo>
                  <a:pt x="19655" y="12102"/>
                  <a:pt x="19649" y="12099"/>
                  <a:pt x="19665" y="12125"/>
                </a:cubicBezTo>
                <a:cubicBezTo>
                  <a:pt x="19679" y="12147"/>
                  <a:pt x="19699" y="12138"/>
                  <a:pt x="19705" y="12164"/>
                </a:cubicBezTo>
                <a:cubicBezTo>
                  <a:pt x="19728" y="12258"/>
                  <a:pt x="19728" y="12566"/>
                  <a:pt x="19685" y="12621"/>
                </a:cubicBezTo>
                <a:cubicBezTo>
                  <a:pt x="19663" y="12648"/>
                  <a:pt x="19642" y="12644"/>
                  <a:pt x="19625" y="12660"/>
                </a:cubicBezTo>
                <a:cubicBezTo>
                  <a:pt x="19625" y="12680"/>
                  <a:pt x="19625" y="12686"/>
                  <a:pt x="19606" y="12680"/>
                </a:cubicBezTo>
                <a:cubicBezTo>
                  <a:pt x="19587" y="12647"/>
                  <a:pt x="19578" y="12646"/>
                  <a:pt x="19566" y="12621"/>
                </a:cubicBezTo>
                <a:cubicBezTo>
                  <a:pt x="19553" y="12593"/>
                  <a:pt x="19557" y="12597"/>
                  <a:pt x="19546" y="12561"/>
                </a:cubicBezTo>
                <a:cubicBezTo>
                  <a:pt x="19538" y="12536"/>
                  <a:pt x="19533" y="12504"/>
                  <a:pt x="19526" y="12482"/>
                </a:cubicBezTo>
                <a:cubicBezTo>
                  <a:pt x="19518" y="12456"/>
                  <a:pt x="19518" y="12446"/>
                  <a:pt x="19506" y="12422"/>
                </a:cubicBezTo>
                <a:cubicBezTo>
                  <a:pt x="19485" y="12379"/>
                  <a:pt x="19505" y="12401"/>
                  <a:pt x="19467" y="12363"/>
                </a:cubicBezTo>
                <a:cubicBezTo>
                  <a:pt x="19446" y="12342"/>
                  <a:pt x="19435" y="12331"/>
                  <a:pt x="19407" y="12323"/>
                </a:cubicBezTo>
                <a:cubicBezTo>
                  <a:pt x="19313" y="12296"/>
                  <a:pt x="18901" y="12294"/>
                  <a:pt x="18852" y="12343"/>
                </a:cubicBezTo>
                <a:cubicBezTo>
                  <a:pt x="18829" y="12366"/>
                  <a:pt x="18841" y="12359"/>
                  <a:pt x="18832" y="12402"/>
                </a:cubicBezTo>
                <a:cubicBezTo>
                  <a:pt x="18823" y="12447"/>
                  <a:pt x="18833" y="12483"/>
                  <a:pt x="18852" y="12502"/>
                </a:cubicBezTo>
                <a:cubicBezTo>
                  <a:pt x="18874" y="12524"/>
                  <a:pt x="18869" y="12513"/>
                  <a:pt x="18911" y="12521"/>
                </a:cubicBezTo>
                <a:cubicBezTo>
                  <a:pt x="18947" y="12528"/>
                  <a:pt x="18993" y="12521"/>
                  <a:pt x="19030" y="12521"/>
                </a:cubicBezTo>
                <a:cubicBezTo>
                  <a:pt x="19032" y="12553"/>
                  <a:pt x="19050" y="12619"/>
                  <a:pt x="19050" y="12621"/>
                </a:cubicBezTo>
                <a:cubicBezTo>
                  <a:pt x="19053" y="12647"/>
                  <a:pt x="19048" y="12674"/>
                  <a:pt x="19050" y="12700"/>
                </a:cubicBezTo>
                <a:cubicBezTo>
                  <a:pt x="19085" y="12708"/>
                  <a:pt x="19084" y="12717"/>
                  <a:pt x="19110" y="12720"/>
                </a:cubicBezTo>
                <a:cubicBezTo>
                  <a:pt x="19136" y="12723"/>
                  <a:pt x="19163" y="12718"/>
                  <a:pt x="19189" y="12720"/>
                </a:cubicBezTo>
                <a:cubicBezTo>
                  <a:pt x="19189" y="12831"/>
                  <a:pt x="19176" y="12978"/>
                  <a:pt x="19169" y="13057"/>
                </a:cubicBezTo>
                <a:cubicBezTo>
                  <a:pt x="19159" y="13164"/>
                  <a:pt x="19156" y="13318"/>
                  <a:pt x="19149" y="13395"/>
                </a:cubicBezTo>
                <a:cubicBezTo>
                  <a:pt x="19144" y="13447"/>
                  <a:pt x="19136" y="13508"/>
                  <a:pt x="19129" y="13533"/>
                </a:cubicBezTo>
                <a:cubicBezTo>
                  <a:pt x="19119" y="13569"/>
                  <a:pt x="19126" y="13568"/>
                  <a:pt x="19110" y="13593"/>
                </a:cubicBezTo>
                <a:cubicBezTo>
                  <a:pt x="19095" y="13616"/>
                  <a:pt x="19086" y="13615"/>
                  <a:pt x="19070" y="13633"/>
                </a:cubicBezTo>
                <a:cubicBezTo>
                  <a:pt x="19056" y="13649"/>
                  <a:pt x="19045" y="13657"/>
                  <a:pt x="19030" y="13672"/>
                </a:cubicBezTo>
                <a:cubicBezTo>
                  <a:pt x="19014" y="13688"/>
                  <a:pt x="19009" y="13697"/>
                  <a:pt x="18990" y="13712"/>
                </a:cubicBezTo>
                <a:cubicBezTo>
                  <a:pt x="18958" y="13737"/>
                  <a:pt x="18945" y="13733"/>
                  <a:pt x="18931" y="13772"/>
                </a:cubicBezTo>
                <a:cubicBezTo>
                  <a:pt x="18920" y="13803"/>
                  <a:pt x="18916" y="13818"/>
                  <a:pt x="18911" y="13851"/>
                </a:cubicBezTo>
                <a:cubicBezTo>
                  <a:pt x="18895" y="13955"/>
                  <a:pt x="18899" y="14093"/>
                  <a:pt x="18891" y="14188"/>
                </a:cubicBezTo>
                <a:cubicBezTo>
                  <a:pt x="18880" y="14315"/>
                  <a:pt x="18878" y="14511"/>
                  <a:pt x="18911" y="14605"/>
                </a:cubicBezTo>
                <a:cubicBezTo>
                  <a:pt x="18918" y="14624"/>
                  <a:pt x="18921" y="14628"/>
                  <a:pt x="18931" y="14645"/>
                </a:cubicBezTo>
                <a:cubicBezTo>
                  <a:pt x="18953" y="14630"/>
                  <a:pt x="18960" y="14625"/>
                  <a:pt x="18990" y="14605"/>
                </a:cubicBezTo>
                <a:cubicBezTo>
                  <a:pt x="19011" y="14591"/>
                  <a:pt x="19038" y="14575"/>
                  <a:pt x="19050" y="14565"/>
                </a:cubicBezTo>
                <a:cubicBezTo>
                  <a:pt x="19059" y="14558"/>
                  <a:pt x="19084" y="14529"/>
                  <a:pt x="19090" y="14526"/>
                </a:cubicBezTo>
                <a:cubicBezTo>
                  <a:pt x="19107" y="14517"/>
                  <a:pt x="19130" y="14519"/>
                  <a:pt x="19149" y="14506"/>
                </a:cubicBezTo>
                <a:cubicBezTo>
                  <a:pt x="19167" y="14493"/>
                  <a:pt x="19184" y="14476"/>
                  <a:pt x="19209" y="14466"/>
                </a:cubicBezTo>
                <a:cubicBezTo>
                  <a:pt x="19234" y="14456"/>
                  <a:pt x="19243" y="14453"/>
                  <a:pt x="19268" y="14446"/>
                </a:cubicBezTo>
                <a:cubicBezTo>
                  <a:pt x="19290" y="14440"/>
                  <a:pt x="19322" y="14434"/>
                  <a:pt x="19348" y="14426"/>
                </a:cubicBezTo>
                <a:cubicBezTo>
                  <a:pt x="19368" y="14420"/>
                  <a:pt x="19406" y="14407"/>
                  <a:pt x="19407" y="14407"/>
                </a:cubicBezTo>
                <a:cubicBezTo>
                  <a:pt x="19449" y="14394"/>
                  <a:pt x="19443" y="14414"/>
                  <a:pt x="19467" y="14387"/>
                </a:cubicBezTo>
                <a:cubicBezTo>
                  <a:pt x="19475" y="14379"/>
                  <a:pt x="19478" y="14335"/>
                  <a:pt x="19487" y="14327"/>
                </a:cubicBezTo>
                <a:cubicBezTo>
                  <a:pt x="19510" y="14305"/>
                  <a:pt x="19537" y="14311"/>
                  <a:pt x="19546" y="14268"/>
                </a:cubicBezTo>
                <a:cubicBezTo>
                  <a:pt x="19557" y="14218"/>
                  <a:pt x="19530" y="14168"/>
                  <a:pt x="19526" y="14149"/>
                </a:cubicBezTo>
                <a:cubicBezTo>
                  <a:pt x="19533" y="14117"/>
                  <a:pt x="19542" y="14132"/>
                  <a:pt x="19546" y="14089"/>
                </a:cubicBezTo>
                <a:cubicBezTo>
                  <a:pt x="19553" y="14023"/>
                  <a:pt x="19563" y="13908"/>
                  <a:pt x="19566" y="13871"/>
                </a:cubicBezTo>
                <a:cubicBezTo>
                  <a:pt x="19579" y="13727"/>
                  <a:pt x="19553" y="13547"/>
                  <a:pt x="19586" y="13434"/>
                </a:cubicBezTo>
                <a:cubicBezTo>
                  <a:pt x="19588" y="13426"/>
                  <a:pt x="19598" y="13384"/>
                  <a:pt x="19606" y="13375"/>
                </a:cubicBezTo>
                <a:cubicBezTo>
                  <a:pt x="19623" y="13355"/>
                  <a:pt x="19635" y="13352"/>
                  <a:pt x="19665" y="13335"/>
                </a:cubicBezTo>
                <a:cubicBezTo>
                  <a:pt x="19691" y="13320"/>
                  <a:pt x="19691" y="13328"/>
                  <a:pt x="19725" y="13315"/>
                </a:cubicBezTo>
                <a:cubicBezTo>
                  <a:pt x="19757" y="13303"/>
                  <a:pt x="19767" y="13306"/>
                  <a:pt x="19784" y="13295"/>
                </a:cubicBezTo>
                <a:cubicBezTo>
                  <a:pt x="19798" y="13286"/>
                  <a:pt x="19815" y="13260"/>
                  <a:pt x="19824" y="13256"/>
                </a:cubicBezTo>
                <a:cubicBezTo>
                  <a:pt x="19845" y="13246"/>
                  <a:pt x="19859" y="13250"/>
                  <a:pt x="19883" y="13236"/>
                </a:cubicBezTo>
                <a:cubicBezTo>
                  <a:pt x="19911" y="13220"/>
                  <a:pt x="19947" y="13188"/>
                  <a:pt x="19963" y="13176"/>
                </a:cubicBezTo>
                <a:cubicBezTo>
                  <a:pt x="19979" y="13164"/>
                  <a:pt x="19994" y="13149"/>
                  <a:pt x="20022" y="13137"/>
                </a:cubicBezTo>
                <a:cubicBezTo>
                  <a:pt x="20047" y="13126"/>
                  <a:pt x="20078" y="13131"/>
                  <a:pt x="20102" y="13117"/>
                </a:cubicBezTo>
                <a:cubicBezTo>
                  <a:pt x="20126" y="13102"/>
                  <a:pt x="20123" y="13093"/>
                  <a:pt x="20141" y="13077"/>
                </a:cubicBezTo>
                <a:cubicBezTo>
                  <a:pt x="20162" y="13059"/>
                  <a:pt x="20177" y="13040"/>
                  <a:pt x="20201" y="13018"/>
                </a:cubicBezTo>
                <a:cubicBezTo>
                  <a:pt x="20218" y="13002"/>
                  <a:pt x="20266" y="12990"/>
                  <a:pt x="20280" y="12978"/>
                </a:cubicBezTo>
                <a:cubicBezTo>
                  <a:pt x="20300" y="12961"/>
                  <a:pt x="20303" y="12958"/>
                  <a:pt x="20320" y="12938"/>
                </a:cubicBezTo>
                <a:cubicBezTo>
                  <a:pt x="20344" y="12909"/>
                  <a:pt x="20345" y="12900"/>
                  <a:pt x="20360" y="12879"/>
                </a:cubicBezTo>
                <a:cubicBezTo>
                  <a:pt x="20379" y="12851"/>
                  <a:pt x="20404" y="12832"/>
                  <a:pt x="20419" y="12819"/>
                </a:cubicBezTo>
                <a:cubicBezTo>
                  <a:pt x="20442" y="12799"/>
                  <a:pt x="20467" y="12770"/>
                  <a:pt x="20479" y="12760"/>
                </a:cubicBezTo>
                <a:cubicBezTo>
                  <a:pt x="20496" y="12746"/>
                  <a:pt x="20527" y="12732"/>
                  <a:pt x="20538" y="12720"/>
                </a:cubicBezTo>
                <a:cubicBezTo>
                  <a:pt x="20558" y="12699"/>
                  <a:pt x="20572" y="12662"/>
                  <a:pt x="20598" y="12640"/>
                </a:cubicBezTo>
                <a:cubicBezTo>
                  <a:pt x="20614" y="12626"/>
                  <a:pt x="20646" y="12613"/>
                  <a:pt x="20657" y="12601"/>
                </a:cubicBezTo>
                <a:cubicBezTo>
                  <a:pt x="20680" y="12575"/>
                  <a:pt x="20683" y="12549"/>
                  <a:pt x="20697" y="12521"/>
                </a:cubicBezTo>
                <a:cubicBezTo>
                  <a:pt x="20698" y="12519"/>
                  <a:pt x="20709" y="12476"/>
                  <a:pt x="20717" y="12462"/>
                </a:cubicBezTo>
                <a:cubicBezTo>
                  <a:pt x="20738" y="12423"/>
                  <a:pt x="20748" y="12426"/>
                  <a:pt x="20757" y="12382"/>
                </a:cubicBezTo>
                <a:cubicBezTo>
                  <a:pt x="20805" y="12146"/>
                  <a:pt x="20757" y="11850"/>
                  <a:pt x="20757" y="11609"/>
                </a:cubicBezTo>
              </a:path>
              <a:path w="3870" h="5121">
                <a:moveTo>
                  <a:pt x="20935" y="11569"/>
                </a:moveTo>
                <a:cubicBezTo>
                  <a:pt x="20953" y="11551"/>
                  <a:pt x="20957" y="11544"/>
                  <a:pt x="20975" y="11549"/>
                </a:cubicBezTo>
                <a:cubicBezTo>
                  <a:pt x="20981" y="11525"/>
                  <a:pt x="20989" y="11513"/>
                  <a:pt x="20995" y="11490"/>
                </a:cubicBezTo>
                <a:cubicBezTo>
                  <a:pt x="21014" y="11484"/>
                  <a:pt x="21032" y="11482"/>
                  <a:pt x="21054" y="11470"/>
                </a:cubicBezTo>
                <a:cubicBezTo>
                  <a:pt x="21094" y="11448"/>
                  <a:pt x="21105" y="11406"/>
                  <a:pt x="21153" y="11390"/>
                </a:cubicBezTo>
                <a:cubicBezTo>
                  <a:pt x="21204" y="11373"/>
                  <a:pt x="21195" y="11344"/>
                  <a:pt x="21233" y="11311"/>
                </a:cubicBezTo>
                <a:cubicBezTo>
                  <a:pt x="21265" y="11295"/>
                  <a:pt x="21278" y="11296"/>
                  <a:pt x="21272" y="11271"/>
                </a:cubicBezTo>
                <a:cubicBezTo>
                  <a:pt x="21322" y="11257"/>
                  <a:pt x="21326" y="11227"/>
                  <a:pt x="21372" y="11212"/>
                </a:cubicBezTo>
                <a:cubicBezTo>
                  <a:pt x="21379" y="11212"/>
                  <a:pt x="21385" y="11212"/>
                  <a:pt x="21392" y="11212"/>
                </a:cubicBezTo>
                <a:cubicBezTo>
                  <a:pt x="21401" y="11175"/>
                  <a:pt x="21415" y="11161"/>
                  <a:pt x="21451" y="11152"/>
                </a:cubicBezTo>
                <a:cubicBezTo>
                  <a:pt x="21451" y="11132"/>
                  <a:pt x="21451" y="11125"/>
                  <a:pt x="21451" y="11112"/>
                </a:cubicBezTo>
              </a:path>
              <a:path w="3870" h="5121">
                <a:moveTo>
                  <a:pt x="21034" y="11946"/>
                </a:moveTo>
                <a:cubicBezTo>
                  <a:pt x="21075" y="11946"/>
                  <a:pt x="21081" y="11945"/>
                  <a:pt x="21114" y="11926"/>
                </a:cubicBezTo>
                <a:cubicBezTo>
                  <a:pt x="21170" y="11893"/>
                  <a:pt x="21187" y="11886"/>
                  <a:pt x="21253" y="11886"/>
                </a:cubicBezTo>
                <a:cubicBezTo>
                  <a:pt x="21296" y="11886"/>
                  <a:pt x="21310" y="11877"/>
                  <a:pt x="21352" y="11867"/>
                </a:cubicBezTo>
                <a:cubicBezTo>
                  <a:pt x="21394" y="11857"/>
                  <a:pt x="21428" y="11840"/>
                  <a:pt x="21471" y="11827"/>
                </a:cubicBezTo>
                <a:cubicBezTo>
                  <a:pt x="21515" y="11813"/>
                  <a:pt x="21564" y="11798"/>
                  <a:pt x="21610" y="11787"/>
                </a:cubicBezTo>
                <a:cubicBezTo>
                  <a:pt x="21633" y="11782"/>
                  <a:pt x="21665" y="11787"/>
                  <a:pt x="21689" y="11787"/>
                </a:cubicBezTo>
              </a:path>
              <a:path w="3870" h="5121">
                <a:moveTo>
                  <a:pt x="21054" y="12442"/>
                </a:moveTo>
                <a:cubicBezTo>
                  <a:pt x="21092" y="12442"/>
                  <a:pt x="21126" y="12458"/>
                  <a:pt x="21153" y="12462"/>
                </a:cubicBezTo>
                <a:cubicBezTo>
                  <a:pt x="21173" y="12462"/>
                  <a:pt x="21193" y="12462"/>
                  <a:pt x="21213" y="12462"/>
                </a:cubicBezTo>
                <a:cubicBezTo>
                  <a:pt x="21239" y="12514"/>
                  <a:pt x="21282" y="12490"/>
                  <a:pt x="21332" y="12521"/>
                </a:cubicBezTo>
                <a:cubicBezTo>
                  <a:pt x="21364" y="12540"/>
                  <a:pt x="21404" y="12546"/>
                  <a:pt x="21431" y="12561"/>
                </a:cubicBezTo>
                <a:cubicBezTo>
                  <a:pt x="21471" y="12583"/>
                  <a:pt x="21457" y="12581"/>
                  <a:pt x="21511" y="12581"/>
                </a:cubicBezTo>
                <a:cubicBezTo>
                  <a:pt x="21520" y="12609"/>
                  <a:pt x="21516" y="12601"/>
                  <a:pt x="21550" y="12601"/>
                </a:cubicBezTo>
              </a:path>
              <a:path w="3870" h="5121">
                <a:moveTo>
                  <a:pt x="20638" y="13037"/>
                </a:moveTo>
                <a:cubicBezTo>
                  <a:pt x="20644" y="13037"/>
                  <a:pt x="20651" y="13037"/>
                  <a:pt x="20657" y="13037"/>
                </a:cubicBezTo>
                <a:cubicBezTo>
                  <a:pt x="20669" y="13087"/>
                  <a:pt x="20688" y="13090"/>
                  <a:pt x="20737" y="13097"/>
                </a:cubicBezTo>
                <a:cubicBezTo>
                  <a:pt x="20751" y="13142"/>
                  <a:pt x="20761" y="13152"/>
                  <a:pt x="20796" y="13196"/>
                </a:cubicBezTo>
                <a:cubicBezTo>
                  <a:pt x="20828" y="13235"/>
                  <a:pt x="20892" y="13252"/>
                  <a:pt x="20915" y="13275"/>
                </a:cubicBezTo>
                <a:cubicBezTo>
                  <a:pt x="20947" y="13307"/>
                  <a:pt x="20943" y="13349"/>
                  <a:pt x="20995" y="13355"/>
                </a:cubicBezTo>
                <a:cubicBezTo>
                  <a:pt x="21015" y="13355"/>
                  <a:pt x="21021" y="13355"/>
                  <a:pt x="21034" y="13355"/>
                </a:cubicBezTo>
              </a:path>
              <a:path w="3870" h="5121">
                <a:moveTo>
                  <a:pt x="20221" y="13395"/>
                </a:moveTo>
                <a:cubicBezTo>
                  <a:pt x="20221" y="13421"/>
                  <a:pt x="20221" y="13448"/>
                  <a:pt x="20221" y="13474"/>
                </a:cubicBezTo>
                <a:cubicBezTo>
                  <a:pt x="20232" y="13478"/>
                  <a:pt x="20274" y="13511"/>
                  <a:pt x="20280" y="13533"/>
                </a:cubicBezTo>
                <a:cubicBezTo>
                  <a:pt x="20292" y="13577"/>
                  <a:pt x="20316" y="13619"/>
                  <a:pt x="20360" y="13652"/>
                </a:cubicBezTo>
                <a:cubicBezTo>
                  <a:pt x="20406" y="13686"/>
                  <a:pt x="20391" y="13680"/>
                  <a:pt x="20439" y="13712"/>
                </a:cubicBezTo>
              </a:path>
              <a:path w="3870" h="5121">
                <a:moveTo>
                  <a:pt x="19844" y="13930"/>
                </a:moveTo>
                <a:cubicBezTo>
                  <a:pt x="19854" y="13979"/>
                  <a:pt x="19884" y="13991"/>
                  <a:pt x="19903" y="14030"/>
                </a:cubicBezTo>
                <a:cubicBezTo>
                  <a:pt x="19932" y="14091"/>
                  <a:pt x="19936" y="14134"/>
                  <a:pt x="19983" y="14188"/>
                </a:cubicBezTo>
                <a:cubicBezTo>
                  <a:pt x="20053" y="14269"/>
                  <a:pt x="20127" y="14349"/>
                  <a:pt x="20201" y="14426"/>
                </a:cubicBezTo>
                <a:cubicBezTo>
                  <a:pt x="20240" y="14466"/>
                  <a:pt x="20258" y="14504"/>
                  <a:pt x="20300" y="14545"/>
                </a:cubicBezTo>
              </a:path>
              <a:path w="3870" h="5121">
                <a:moveTo>
                  <a:pt x="19645" y="14883"/>
                </a:moveTo>
                <a:cubicBezTo>
                  <a:pt x="19645" y="14916"/>
                  <a:pt x="19653" y="14935"/>
                  <a:pt x="19665" y="14962"/>
                </a:cubicBezTo>
                <a:cubicBezTo>
                  <a:pt x="19677" y="14989"/>
                  <a:pt x="19693" y="15061"/>
                  <a:pt x="19705" y="15081"/>
                </a:cubicBezTo>
                <a:cubicBezTo>
                  <a:pt x="19739" y="15138"/>
                  <a:pt x="19760" y="15147"/>
                  <a:pt x="19764" y="15220"/>
                </a:cubicBezTo>
                <a:cubicBezTo>
                  <a:pt x="19767" y="15286"/>
                  <a:pt x="19764" y="15353"/>
                  <a:pt x="19764" y="15419"/>
                </a:cubicBezTo>
              </a:path>
              <a:path w="3870" h="5121">
                <a:moveTo>
                  <a:pt x="18911" y="14863"/>
                </a:moveTo>
                <a:cubicBezTo>
                  <a:pt x="18911" y="14870"/>
                  <a:pt x="18911" y="14876"/>
                  <a:pt x="18911" y="14883"/>
                </a:cubicBezTo>
                <a:cubicBezTo>
                  <a:pt x="18877" y="14894"/>
                  <a:pt x="18861" y="14947"/>
                  <a:pt x="18832" y="14982"/>
                </a:cubicBezTo>
                <a:cubicBezTo>
                  <a:pt x="18780" y="15044"/>
                  <a:pt x="18757" y="15071"/>
                  <a:pt x="18713" y="15141"/>
                </a:cubicBezTo>
                <a:cubicBezTo>
                  <a:pt x="18701" y="15160"/>
                  <a:pt x="18612" y="15211"/>
                  <a:pt x="18594" y="15220"/>
                </a:cubicBezTo>
                <a:cubicBezTo>
                  <a:pt x="18573" y="15231"/>
                  <a:pt x="18518" y="15220"/>
                  <a:pt x="18494" y="15220"/>
                </a:cubicBezTo>
              </a:path>
              <a:path w="3870" h="5121">
                <a:moveTo>
                  <a:pt x="18494" y="14288"/>
                </a:moveTo>
                <a:cubicBezTo>
                  <a:pt x="18446" y="14288"/>
                  <a:pt x="18429" y="14304"/>
                  <a:pt x="18375" y="14307"/>
                </a:cubicBezTo>
                <a:cubicBezTo>
                  <a:pt x="18191" y="14316"/>
                  <a:pt x="18004" y="14307"/>
                  <a:pt x="17820" y="14307"/>
                </a:cubicBezTo>
              </a:path>
              <a:path w="3870" h="5121">
                <a:moveTo>
                  <a:pt x="18613" y="13375"/>
                </a:moveTo>
                <a:cubicBezTo>
                  <a:pt x="18578" y="13366"/>
                  <a:pt x="18553" y="13345"/>
                  <a:pt x="18514" y="13335"/>
                </a:cubicBezTo>
                <a:cubicBezTo>
                  <a:pt x="18453" y="13320"/>
                  <a:pt x="18378" y="13301"/>
                  <a:pt x="18316" y="13295"/>
                </a:cubicBezTo>
                <a:cubicBezTo>
                  <a:pt x="18216" y="13286"/>
                  <a:pt x="18120" y="13275"/>
                  <a:pt x="18018" y="13275"/>
                </a:cubicBezTo>
                <a:cubicBezTo>
                  <a:pt x="18011" y="13275"/>
                  <a:pt x="18005" y="13275"/>
                  <a:pt x="17998" y="13275"/>
                </a:cubicBezTo>
              </a:path>
              <a:path w="3870" h="5121">
                <a:moveTo>
                  <a:pt x="18633" y="12462"/>
                </a:moveTo>
                <a:cubicBezTo>
                  <a:pt x="18600" y="12422"/>
                  <a:pt x="18579" y="12380"/>
                  <a:pt x="18534" y="12343"/>
                </a:cubicBezTo>
                <a:cubicBezTo>
                  <a:pt x="18442" y="12267"/>
                  <a:pt x="18396" y="12191"/>
                  <a:pt x="18316" y="12105"/>
                </a:cubicBezTo>
                <a:cubicBezTo>
                  <a:pt x="18240" y="12022"/>
                  <a:pt x="18170" y="11933"/>
                  <a:pt x="18078" y="11867"/>
                </a:cubicBezTo>
                <a:cubicBezTo>
                  <a:pt x="18027" y="11830"/>
                  <a:pt x="17983" y="11783"/>
                  <a:pt x="17939" y="11748"/>
                </a:cubicBezTo>
                <a:cubicBezTo>
                  <a:pt x="17906" y="11732"/>
                  <a:pt x="17893" y="11733"/>
                  <a:pt x="17899" y="11708"/>
                </a:cubicBezTo>
              </a:path>
              <a:path w="3870" h="5121">
                <a:moveTo>
                  <a:pt x="18990" y="11648"/>
                </a:moveTo>
                <a:cubicBezTo>
                  <a:pt x="18970" y="11602"/>
                  <a:pt x="18906" y="11535"/>
                  <a:pt x="18852" y="11490"/>
                </a:cubicBezTo>
                <a:cubicBezTo>
                  <a:pt x="18767" y="11420"/>
                  <a:pt x="18743" y="11301"/>
                  <a:pt x="18653" y="11232"/>
                </a:cubicBezTo>
                <a:cubicBezTo>
                  <a:pt x="18585" y="11180"/>
                  <a:pt x="18471" y="11081"/>
                  <a:pt x="18435" y="10993"/>
                </a:cubicBezTo>
                <a:cubicBezTo>
                  <a:pt x="18414" y="10942"/>
                  <a:pt x="18400" y="10884"/>
                  <a:pt x="18375" y="10835"/>
                </a:cubicBezTo>
                <a:cubicBezTo>
                  <a:pt x="18358" y="10802"/>
                  <a:pt x="18360" y="10812"/>
                  <a:pt x="18355" y="10775"/>
                </a:cubicBezTo>
              </a:path>
              <a:path w="3870" h="5121">
                <a:moveTo>
                  <a:pt x="19943" y="11311"/>
                </a:moveTo>
                <a:cubicBezTo>
                  <a:pt x="19943" y="11233"/>
                  <a:pt x="19941" y="11170"/>
                  <a:pt x="19923" y="11093"/>
                </a:cubicBezTo>
                <a:cubicBezTo>
                  <a:pt x="19893" y="10968"/>
                  <a:pt x="19854" y="10846"/>
                  <a:pt x="19844" y="10716"/>
                </a:cubicBezTo>
                <a:cubicBezTo>
                  <a:pt x="19838" y="10639"/>
                  <a:pt x="19840" y="10553"/>
                  <a:pt x="19824" y="10478"/>
                </a:cubicBezTo>
                <a:cubicBezTo>
                  <a:pt x="19813" y="10428"/>
                  <a:pt x="19804" y="10421"/>
                  <a:pt x="19804" y="10378"/>
                </a:cubicBezTo>
              </a:path>
              <a:path w="3870" h="5121">
                <a:moveTo>
                  <a:pt x="20717" y="11112"/>
                </a:moveTo>
                <a:cubicBezTo>
                  <a:pt x="20740" y="11082"/>
                  <a:pt x="20737" y="11072"/>
                  <a:pt x="20737" y="11033"/>
                </a:cubicBezTo>
                <a:cubicBezTo>
                  <a:pt x="20737" y="10973"/>
                  <a:pt x="20835" y="10924"/>
                  <a:pt x="20856" y="10874"/>
                </a:cubicBezTo>
                <a:cubicBezTo>
                  <a:pt x="20897" y="10776"/>
                  <a:pt x="20924" y="10681"/>
                  <a:pt x="20995" y="10597"/>
                </a:cubicBezTo>
                <a:cubicBezTo>
                  <a:pt x="21054" y="10527"/>
                  <a:pt x="21110" y="10481"/>
                  <a:pt x="21153" y="10398"/>
                </a:cubicBezTo>
                <a:cubicBezTo>
                  <a:pt x="21171" y="10364"/>
                  <a:pt x="21186" y="10335"/>
                  <a:pt x="21193" y="10299"/>
                </a:cubicBezTo>
              </a:path>
              <a:path w="3870" h="5121">
                <a:moveTo>
                  <a:pt x="18653" y="12462"/>
                </a:moveTo>
                <a:cubicBezTo>
                  <a:pt x="18653" y="12336"/>
                  <a:pt x="18653" y="12211"/>
                  <a:pt x="18653" y="12085"/>
                </a:cubicBezTo>
              </a:path>
              <a:path w="3870" h="5121">
                <a:moveTo>
                  <a:pt x="18673" y="12521"/>
                </a:moveTo>
                <a:cubicBezTo>
                  <a:pt x="18554" y="12521"/>
                  <a:pt x="18435" y="12521"/>
                  <a:pt x="18316" y="12521"/>
                </a:cubicBezTo>
              </a:path>
              <a:path w="3870" h="5121">
                <a:moveTo>
                  <a:pt x="19030" y="11688"/>
                </a:moveTo>
                <a:cubicBezTo>
                  <a:pt x="18911" y="11688"/>
                  <a:pt x="18594" y="11688"/>
                  <a:pt x="18713" y="11688"/>
                </a:cubicBezTo>
                <a:cubicBezTo>
                  <a:pt x="18786" y="11688"/>
                  <a:pt x="18867" y="11690"/>
                  <a:pt x="18911" y="11668"/>
                </a:cubicBezTo>
                <a:cubicBezTo>
                  <a:pt x="18949" y="11649"/>
                  <a:pt x="19047" y="11668"/>
                  <a:pt x="19090" y="11668"/>
                </a:cubicBezTo>
                <a:cubicBezTo>
                  <a:pt x="19082" y="11637"/>
                  <a:pt x="19070" y="11624"/>
                  <a:pt x="19070" y="11589"/>
                </a:cubicBezTo>
                <a:cubicBezTo>
                  <a:pt x="19070" y="11494"/>
                  <a:pt x="19078" y="11394"/>
                  <a:pt x="19050" y="11311"/>
                </a:cubicBezTo>
                <a:cubicBezTo>
                  <a:pt x="19043" y="11290"/>
                  <a:pt x="19050" y="11254"/>
                  <a:pt x="19050" y="11232"/>
                </a:cubicBezTo>
              </a:path>
              <a:path w="3870" h="5121">
                <a:moveTo>
                  <a:pt x="19943" y="11311"/>
                </a:moveTo>
                <a:cubicBezTo>
                  <a:pt x="19963" y="11311"/>
                  <a:pt x="19970" y="11311"/>
                  <a:pt x="19983" y="11311"/>
                </a:cubicBezTo>
                <a:cubicBezTo>
                  <a:pt x="19983" y="11291"/>
                  <a:pt x="19983" y="11271"/>
                  <a:pt x="19983" y="11251"/>
                </a:cubicBezTo>
                <a:cubicBezTo>
                  <a:pt x="20012" y="11241"/>
                  <a:pt x="20002" y="11227"/>
                  <a:pt x="20002" y="11192"/>
                </a:cubicBezTo>
                <a:cubicBezTo>
                  <a:pt x="20030" y="11183"/>
                  <a:pt x="20022" y="11186"/>
                  <a:pt x="20022" y="11152"/>
                </a:cubicBezTo>
                <a:cubicBezTo>
                  <a:pt x="20057" y="11152"/>
                  <a:pt x="20070" y="11148"/>
                  <a:pt x="20082" y="11112"/>
                </a:cubicBezTo>
                <a:cubicBezTo>
                  <a:pt x="20082" y="11106"/>
                  <a:pt x="20082" y="11099"/>
                  <a:pt x="20082" y="11093"/>
                </a:cubicBezTo>
                <a:cubicBezTo>
                  <a:pt x="20115" y="11085"/>
                  <a:pt x="20114" y="11086"/>
                  <a:pt x="20122" y="11053"/>
                </a:cubicBezTo>
                <a:cubicBezTo>
                  <a:pt x="20154" y="11045"/>
                  <a:pt x="20153" y="11045"/>
                  <a:pt x="20161" y="11013"/>
                </a:cubicBezTo>
              </a:path>
              <a:path w="3870" h="5121">
                <a:moveTo>
                  <a:pt x="19963" y="11331"/>
                </a:moveTo>
                <a:cubicBezTo>
                  <a:pt x="19932" y="11308"/>
                  <a:pt x="19913" y="11311"/>
                  <a:pt x="19903" y="11271"/>
                </a:cubicBezTo>
                <a:cubicBezTo>
                  <a:pt x="19869" y="11271"/>
                  <a:pt x="19873" y="11279"/>
                  <a:pt x="19864" y="11251"/>
                </a:cubicBezTo>
                <a:cubicBezTo>
                  <a:pt x="19835" y="11242"/>
                  <a:pt x="19840" y="11208"/>
                  <a:pt x="19804" y="11192"/>
                </a:cubicBezTo>
                <a:cubicBezTo>
                  <a:pt x="19784" y="11192"/>
                  <a:pt x="19777" y="11192"/>
                  <a:pt x="19764" y="11192"/>
                </a:cubicBezTo>
                <a:cubicBezTo>
                  <a:pt x="19755" y="11164"/>
                  <a:pt x="19759" y="11172"/>
                  <a:pt x="19725" y="11172"/>
                </a:cubicBezTo>
                <a:cubicBezTo>
                  <a:pt x="19717" y="11148"/>
                  <a:pt x="19691" y="11138"/>
                  <a:pt x="19665" y="11112"/>
                </a:cubicBezTo>
              </a:path>
              <a:path w="3870" h="5121">
                <a:moveTo>
                  <a:pt x="20737" y="11112"/>
                </a:moveTo>
                <a:cubicBezTo>
                  <a:pt x="20809" y="11112"/>
                  <a:pt x="21137" y="11141"/>
                  <a:pt x="21153" y="11093"/>
                </a:cubicBezTo>
              </a:path>
              <a:path w="3870" h="5121">
                <a:moveTo>
                  <a:pt x="20697" y="11112"/>
                </a:moveTo>
                <a:cubicBezTo>
                  <a:pt x="20697" y="11092"/>
                  <a:pt x="20697" y="11073"/>
                  <a:pt x="20697" y="11053"/>
                </a:cubicBezTo>
                <a:cubicBezTo>
                  <a:pt x="20682" y="11048"/>
                  <a:pt x="20649" y="11018"/>
                  <a:pt x="20638" y="10993"/>
                </a:cubicBezTo>
                <a:cubicBezTo>
                  <a:pt x="20627" y="10968"/>
                  <a:pt x="20625" y="10918"/>
                  <a:pt x="20618" y="10894"/>
                </a:cubicBezTo>
                <a:cubicBezTo>
                  <a:pt x="20618" y="10874"/>
                  <a:pt x="20618" y="10868"/>
                  <a:pt x="20618" y="10855"/>
                </a:cubicBezTo>
                <a:cubicBezTo>
                  <a:pt x="20574" y="10840"/>
                  <a:pt x="20625" y="10846"/>
                  <a:pt x="20558" y="10835"/>
                </a:cubicBezTo>
                <a:cubicBezTo>
                  <a:pt x="20550" y="10802"/>
                  <a:pt x="20551" y="10803"/>
                  <a:pt x="20518" y="10795"/>
                </a:cubicBezTo>
                <a:cubicBezTo>
                  <a:pt x="20518" y="10775"/>
                  <a:pt x="20518" y="10769"/>
                  <a:pt x="20499" y="10775"/>
                </a:cubicBezTo>
              </a:path>
              <a:path w="3870" h="5121">
                <a:moveTo>
                  <a:pt x="20955" y="11589"/>
                </a:moveTo>
                <a:cubicBezTo>
                  <a:pt x="21061" y="11589"/>
                  <a:pt x="21166" y="11589"/>
                  <a:pt x="21272" y="11589"/>
                </a:cubicBezTo>
              </a:path>
              <a:path w="3870" h="5121">
                <a:moveTo>
                  <a:pt x="20935" y="11529"/>
                </a:moveTo>
                <a:cubicBezTo>
                  <a:pt x="20935" y="11430"/>
                  <a:pt x="20935" y="11331"/>
                  <a:pt x="20935" y="11232"/>
                </a:cubicBezTo>
              </a:path>
              <a:path w="3870" h="5121">
                <a:moveTo>
                  <a:pt x="21015" y="12025"/>
                </a:moveTo>
                <a:cubicBezTo>
                  <a:pt x="21035" y="12025"/>
                  <a:pt x="21054" y="12025"/>
                  <a:pt x="21074" y="12025"/>
                </a:cubicBezTo>
                <a:cubicBezTo>
                  <a:pt x="21092" y="12052"/>
                  <a:pt x="21113" y="12045"/>
                  <a:pt x="21153" y="12045"/>
                </a:cubicBezTo>
                <a:cubicBezTo>
                  <a:pt x="21163" y="12075"/>
                  <a:pt x="21177" y="12065"/>
                  <a:pt x="21213" y="12065"/>
                </a:cubicBezTo>
                <a:cubicBezTo>
                  <a:pt x="21246" y="12065"/>
                  <a:pt x="21279" y="12065"/>
                  <a:pt x="21312" y="12065"/>
                </a:cubicBezTo>
                <a:cubicBezTo>
                  <a:pt x="21322" y="12095"/>
                  <a:pt x="21336" y="12085"/>
                  <a:pt x="21372" y="12085"/>
                </a:cubicBezTo>
                <a:cubicBezTo>
                  <a:pt x="21398" y="12085"/>
                  <a:pt x="21407" y="12099"/>
                  <a:pt x="21431" y="12105"/>
                </a:cubicBezTo>
              </a:path>
              <a:path w="3870" h="5121">
                <a:moveTo>
                  <a:pt x="21015" y="12025"/>
                </a:moveTo>
                <a:cubicBezTo>
                  <a:pt x="21015" y="11959"/>
                  <a:pt x="21016" y="11904"/>
                  <a:pt x="21034" y="11847"/>
                </a:cubicBezTo>
                <a:cubicBezTo>
                  <a:pt x="21047" y="11805"/>
                  <a:pt x="21034" y="11733"/>
                  <a:pt x="21034" y="11688"/>
                </a:cubicBezTo>
              </a:path>
              <a:path w="3870" h="5121">
                <a:moveTo>
                  <a:pt x="21015" y="12462"/>
                </a:moveTo>
                <a:cubicBezTo>
                  <a:pt x="21015" y="12482"/>
                  <a:pt x="21015" y="12489"/>
                  <a:pt x="21015" y="12502"/>
                </a:cubicBezTo>
                <a:cubicBezTo>
                  <a:pt x="21032" y="12508"/>
                  <a:pt x="21046" y="12537"/>
                  <a:pt x="21054" y="12561"/>
                </a:cubicBezTo>
                <a:cubicBezTo>
                  <a:pt x="21065" y="12595"/>
                  <a:pt x="21054" y="12631"/>
                  <a:pt x="21074" y="12660"/>
                </a:cubicBezTo>
                <a:cubicBezTo>
                  <a:pt x="21098" y="12696"/>
                  <a:pt x="21140" y="12720"/>
                  <a:pt x="21153" y="12760"/>
                </a:cubicBezTo>
                <a:cubicBezTo>
                  <a:pt x="21153" y="12779"/>
                  <a:pt x="21153" y="12785"/>
                  <a:pt x="21153" y="12760"/>
                </a:cubicBezTo>
              </a:path>
              <a:path w="3870" h="5121">
                <a:moveTo>
                  <a:pt x="20995" y="12442"/>
                </a:moveTo>
                <a:cubicBezTo>
                  <a:pt x="20995" y="12435"/>
                  <a:pt x="20995" y="12429"/>
                  <a:pt x="20995" y="12422"/>
                </a:cubicBezTo>
                <a:cubicBezTo>
                  <a:pt x="21073" y="12422"/>
                  <a:pt x="21146" y="12424"/>
                  <a:pt x="21213" y="12402"/>
                </a:cubicBezTo>
                <a:cubicBezTo>
                  <a:pt x="21251" y="12389"/>
                  <a:pt x="21253" y="12414"/>
                  <a:pt x="21253" y="12363"/>
                </a:cubicBezTo>
              </a:path>
              <a:path w="3870" h="5121">
                <a:moveTo>
                  <a:pt x="20975" y="12422"/>
                </a:moveTo>
                <a:cubicBezTo>
                  <a:pt x="20999" y="12416"/>
                  <a:pt x="21011" y="12408"/>
                  <a:pt x="21034" y="12402"/>
                </a:cubicBezTo>
                <a:cubicBezTo>
                  <a:pt x="21045" y="12370"/>
                  <a:pt x="21063" y="12390"/>
                  <a:pt x="21094" y="12363"/>
                </a:cubicBezTo>
                <a:cubicBezTo>
                  <a:pt x="21112" y="12345"/>
                  <a:pt x="21116" y="12338"/>
                  <a:pt x="21134" y="12343"/>
                </a:cubicBezTo>
                <a:cubicBezTo>
                  <a:pt x="21144" y="12313"/>
                  <a:pt x="21157" y="12323"/>
                  <a:pt x="21193" y="12323"/>
                </a:cubicBezTo>
                <a:cubicBezTo>
                  <a:pt x="21244" y="12323"/>
                  <a:pt x="21270" y="12317"/>
                  <a:pt x="21312" y="12303"/>
                </a:cubicBezTo>
                <a:cubicBezTo>
                  <a:pt x="21319" y="12303"/>
                  <a:pt x="21325" y="12303"/>
                  <a:pt x="21332" y="12303"/>
                </a:cubicBezTo>
                <a:cubicBezTo>
                  <a:pt x="21342" y="12273"/>
                  <a:pt x="21356" y="12283"/>
                  <a:pt x="21392" y="12283"/>
                </a:cubicBezTo>
              </a:path>
              <a:path w="3870" h="5121">
                <a:moveTo>
                  <a:pt x="20618" y="13018"/>
                </a:moveTo>
                <a:cubicBezTo>
                  <a:pt x="20618" y="13067"/>
                  <a:pt x="20598" y="13180"/>
                  <a:pt x="20638" y="13216"/>
                </a:cubicBezTo>
                <a:cubicBezTo>
                  <a:pt x="20644" y="13216"/>
                  <a:pt x="20651" y="13216"/>
                  <a:pt x="20657" y="13216"/>
                </a:cubicBezTo>
                <a:cubicBezTo>
                  <a:pt x="20657" y="13271"/>
                  <a:pt x="20664" y="13284"/>
                  <a:pt x="20677" y="13335"/>
                </a:cubicBezTo>
                <a:cubicBezTo>
                  <a:pt x="20681" y="13352"/>
                  <a:pt x="20677" y="13377"/>
                  <a:pt x="20677" y="13395"/>
                </a:cubicBezTo>
              </a:path>
              <a:path w="3870" h="5121">
                <a:moveTo>
                  <a:pt x="20657" y="12978"/>
                </a:moveTo>
                <a:cubicBezTo>
                  <a:pt x="20640" y="12996"/>
                  <a:pt x="20633" y="13000"/>
                  <a:pt x="20638" y="13018"/>
                </a:cubicBezTo>
                <a:cubicBezTo>
                  <a:pt x="20803" y="13018"/>
                  <a:pt x="20969" y="13018"/>
                  <a:pt x="21134" y="13018"/>
                </a:cubicBezTo>
              </a:path>
              <a:path w="3870" h="5121">
                <a:moveTo>
                  <a:pt x="20221" y="13434"/>
                </a:moveTo>
                <a:cubicBezTo>
                  <a:pt x="20201" y="13434"/>
                  <a:pt x="20194" y="13434"/>
                  <a:pt x="20181" y="13434"/>
                </a:cubicBezTo>
                <a:cubicBezTo>
                  <a:pt x="20181" y="13547"/>
                  <a:pt x="20181" y="13659"/>
                  <a:pt x="20181" y="13772"/>
                </a:cubicBezTo>
              </a:path>
              <a:path w="3870" h="5121">
                <a:moveTo>
                  <a:pt x="20181" y="13355"/>
                </a:moveTo>
                <a:cubicBezTo>
                  <a:pt x="20211" y="13365"/>
                  <a:pt x="20198" y="13375"/>
                  <a:pt x="20241" y="13375"/>
                </a:cubicBezTo>
                <a:cubicBezTo>
                  <a:pt x="20367" y="13375"/>
                  <a:pt x="20492" y="13375"/>
                  <a:pt x="20618" y="13375"/>
                </a:cubicBezTo>
                <a:cubicBezTo>
                  <a:pt x="20613" y="13355"/>
                  <a:pt x="20587" y="13319"/>
                  <a:pt x="20578" y="13315"/>
                </a:cubicBezTo>
                <a:cubicBezTo>
                  <a:pt x="20552" y="13302"/>
                  <a:pt x="20539" y="13302"/>
                  <a:pt x="20518" y="13295"/>
                </a:cubicBezTo>
              </a:path>
              <a:path w="3870" h="5121">
                <a:moveTo>
                  <a:pt x="19864" y="13970"/>
                </a:moveTo>
                <a:cubicBezTo>
                  <a:pt x="19838" y="14014"/>
                  <a:pt x="19844" y="14055"/>
                  <a:pt x="19844" y="14109"/>
                </a:cubicBezTo>
                <a:cubicBezTo>
                  <a:pt x="19844" y="14215"/>
                  <a:pt x="19844" y="14320"/>
                  <a:pt x="19844" y="14426"/>
                </a:cubicBezTo>
                <a:cubicBezTo>
                  <a:pt x="19814" y="14416"/>
                  <a:pt x="19824" y="14403"/>
                  <a:pt x="19824" y="14367"/>
                </a:cubicBezTo>
                <a:cubicBezTo>
                  <a:pt x="19824" y="14360"/>
                  <a:pt x="19824" y="14354"/>
                  <a:pt x="19824" y="14347"/>
                </a:cubicBezTo>
              </a:path>
              <a:path w="3870" h="5121">
                <a:moveTo>
                  <a:pt x="19844" y="13930"/>
                </a:moveTo>
                <a:cubicBezTo>
                  <a:pt x="19874" y="13938"/>
                  <a:pt x="19899" y="13948"/>
                  <a:pt x="19923" y="13970"/>
                </a:cubicBezTo>
                <a:cubicBezTo>
                  <a:pt x="19973" y="14015"/>
                  <a:pt x="20012" y="13989"/>
                  <a:pt x="20062" y="14010"/>
                </a:cubicBezTo>
                <a:cubicBezTo>
                  <a:pt x="20099" y="14026"/>
                  <a:pt x="20113" y="14030"/>
                  <a:pt x="20161" y="14030"/>
                </a:cubicBezTo>
                <a:cubicBezTo>
                  <a:pt x="20254" y="14030"/>
                  <a:pt x="20346" y="14030"/>
                  <a:pt x="20439" y="14030"/>
                </a:cubicBezTo>
                <a:cubicBezTo>
                  <a:pt x="20454" y="13984"/>
                  <a:pt x="20477" y="14038"/>
                  <a:pt x="20499" y="14010"/>
                </a:cubicBezTo>
                <a:cubicBezTo>
                  <a:pt x="20499" y="14003"/>
                  <a:pt x="20499" y="13997"/>
                  <a:pt x="20499" y="13990"/>
                </a:cubicBezTo>
              </a:path>
              <a:path w="3870" h="5121">
                <a:moveTo>
                  <a:pt x="18911" y="14843"/>
                </a:moveTo>
                <a:cubicBezTo>
                  <a:pt x="18832" y="14843"/>
                  <a:pt x="18752" y="14843"/>
                  <a:pt x="18673" y="14843"/>
                </a:cubicBezTo>
              </a:path>
              <a:path w="3870" h="5121">
                <a:moveTo>
                  <a:pt x="18455" y="14288"/>
                </a:moveTo>
                <a:cubicBezTo>
                  <a:pt x="18455" y="14261"/>
                  <a:pt x="18455" y="14235"/>
                  <a:pt x="18455" y="14208"/>
                </a:cubicBezTo>
                <a:cubicBezTo>
                  <a:pt x="18419" y="14199"/>
                  <a:pt x="18391" y="14165"/>
                  <a:pt x="18375" y="14129"/>
                </a:cubicBezTo>
                <a:cubicBezTo>
                  <a:pt x="18348" y="14069"/>
                  <a:pt x="18340" y="14054"/>
                  <a:pt x="18296" y="14010"/>
                </a:cubicBezTo>
                <a:cubicBezTo>
                  <a:pt x="18278" y="13992"/>
                  <a:pt x="18271" y="13988"/>
                  <a:pt x="18276" y="13970"/>
                </a:cubicBezTo>
                <a:cubicBezTo>
                  <a:pt x="18248" y="13961"/>
                  <a:pt x="18259" y="13940"/>
                  <a:pt x="18236" y="13910"/>
                </a:cubicBezTo>
              </a:path>
              <a:path w="3870" h="5121">
                <a:moveTo>
                  <a:pt x="18455" y="14327"/>
                </a:moveTo>
                <a:cubicBezTo>
                  <a:pt x="18407" y="14327"/>
                  <a:pt x="18425" y="14334"/>
                  <a:pt x="18395" y="14367"/>
                </a:cubicBezTo>
                <a:cubicBezTo>
                  <a:pt x="18356" y="14410"/>
                  <a:pt x="18372" y="14469"/>
                  <a:pt x="18336" y="14506"/>
                </a:cubicBezTo>
                <a:cubicBezTo>
                  <a:pt x="18299" y="14544"/>
                  <a:pt x="18264" y="14606"/>
                  <a:pt x="18236" y="14665"/>
                </a:cubicBezTo>
                <a:cubicBezTo>
                  <a:pt x="18219" y="14719"/>
                  <a:pt x="18215" y="14733"/>
                  <a:pt x="18197" y="14764"/>
                </a:cubicBezTo>
              </a:path>
              <a:path w="3870" h="5121">
                <a:moveTo>
                  <a:pt x="18594" y="13375"/>
                </a:moveTo>
                <a:cubicBezTo>
                  <a:pt x="18594" y="13325"/>
                  <a:pt x="18565" y="13323"/>
                  <a:pt x="18554" y="13275"/>
                </a:cubicBezTo>
                <a:cubicBezTo>
                  <a:pt x="18546" y="13242"/>
                  <a:pt x="18538" y="13184"/>
                  <a:pt x="18534" y="13156"/>
                </a:cubicBezTo>
                <a:cubicBezTo>
                  <a:pt x="18525" y="13100"/>
                  <a:pt x="18528" y="13065"/>
                  <a:pt x="18514" y="13018"/>
                </a:cubicBezTo>
                <a:cubicBezTo>
                  <a:pt x="18509" y="13002"/>
                  <a:pt x="18514" y="12975"/>
                  <a:pt x="18514" y="12958"/>
                </a:cubicBezTo>
              </a:path>
              <a:path w="3870" h="5121">
                <a:moveTo>
                  <a:pt x="18653" y="13414"/>
                </a:moveTo>
                <a:cubicBezTo>
                  <a:pt x="18586" y="13414"/>
                  <a:pt x="18531" y="13415"/>
                  <a:pt x="18475" y="13434"/>
                </a:cubicBezTo>
                <a:cubicBezTo>
                  <a:pt x="18431" y="13449"/>
                  <a:pt x="18451" y="13476"/>
                  <a:pt x="18415" y="13494"/>
                </a:cubicBezTo>
                <a:cubicBezTo>
                  <a:pt x="18387" y="13508"/>
                  <a:pt x="18384" y="13498"/>
                  <a:pt x="18375" y="13533"/>
                </a:cubicBezTo>
                <a:cubicBezTo>
                  <a:pt x="18334" y="13533"/>
                  <a:pt x="18336" y="13532"/>
                  <a:pt x="18336" y="13573"/>
                </a:cubicBezTo>
                <a:cubicBezTo>
                  <a:pt x="18336" y="13593"/>
                  <a:pt x="18336" y="13600"/>
                  <a:pt x="18316" y="13593"/>
                </a:cubicBezTo>
              </a:path>
              <a:path w="3870" h="5121">
                <a:moveTo>
                  <a:pt x="18931" y="14863"/>
                </a:moveTo>
                <a:cubicBezTo>
                  <a:pt x="18931" y="14956"/>
                  <a:pt x="18931" y="15048"/>
                  <a:pt x="18931" y="15141"/>
                </a:cubicBezTo>
              </a:path>
              <a:path w="3870" h="5121">
                <a:moveTo>
                  <a:pt x="19645" y="14903"/>
                </a:moveTo>
                <a:cubicBezTo>
                  <a:pt x="19638" y="14903"/>
                  <a:pt x="19632" y="14903"/>
                  <a:pt x="19625" y="14903"/>
                </a:cubicBezTo>
                <a:cubicBezTo>
                  <a:pt x="19617" y="14934"/>
                  <a:pt x="19606" y="14947"/>
                  <a:pt x="19606" y="14982"/>
                </a:cubicBezTo>
                <a:cubicBezTo>
                  <a:pt x="19606" y="15018"/>
                  <a:pt x="19594" y="15030"/>
                  <a:pt x="19586" y="15061"/>
                </a:cubicBezTo>
                <a:cubicBezTo>
                  <a:pt x="19571" y="15071"/>
                  <a:pt x="19544" y="15095"/>
                  <a:pt x="19526" y="15121"/>
                </a:cubicBezTo>
                <a:cubicBezTo>
                  <a:pt x="19510" y="15153"/>
                  <a:pt x="19512" y="15167"/>
                  <a:pt x="19487" y="15161"/>
                </a:cubicBezTo>
                <a:cubicBezTo>
                  <a:pt x="19477" y="15190"/>
                  <a:pt x="19467" y="15177"/>
                  <a:pt x="19467" y="15220"/>
                </a:cubicBezTo>
              </a:path>
              <a:path w="3870" h="5121">
                <a:moveTo>
                  <a:pt x="19645" y="14903"/>
                </a:moveTo>
                <a:cubicBezTo>
                  <a:pt x="19676" y="14910"/>
                  <a:pt x="19690" y="14922"/>
                  <a:pt x="19725" y="14922"/>
                </a:cubicBezTo>
                <a:cubicBezTo>
                  <a:pt x="19735" y="14953"/>
                  <a:pt x="19754" y="14935"/>
                  <a:pt x="19784" y="14962"/>
                </a:cubicBezTo>
                <a:cubicBezTo>
                  <a:pt x="19808" y="14984"/>
                  <a:pt x="19854" y="15029"/>
                  <a:pt x="19883" y="15042"/>
                </a:cubicBezTo>
                <a:cubicBezTo>
                  <a:pt x="19907" y="15053"/>
                  <a:pt x="19940" y="15046"/>
                  <a:pt x="19963" y="15061"/>
                </a:cubicBezTo>
                <a:cubicBezTo>
                  <a:pt x="19995" y="15082"/>
                  <a:pt x="20022" y="15093"/>
                  <a:pt x="20062" y="15101"/>
                </a:cubicBezTo>
              </a:path>
              <a:path w="3870" h="5121">
                <a:moveTo>
                  <a:pt x="20280" y="12918"/>
                </a:moveTo>
                <a:cubicBezTo>
                  <a:pt x="20196" y="12918"/>
                  <a:pt x="20115" y="12914"/>
                  <a:pt x="20042" y="12938"/>
                </a:cubicBezTo>
                <a:cubicBezTo>
                  <a:pt x="20035" y="12938"/>
                  <a:pt x="20029" y="12938"/>
                  <a:pt x="20022" y="12938"/>
                </a:cubicBezTo>
                <a:cubicBezTo>
                  <a:pt x="20013" y="12966"/>
                  <a:pt x="20017" y="12958"/>
                  <a:pt x="19983" y="12958"/>
                </a:cubicBezTo>
                <a:cubicBezTo>
                  <a:pt x="19973" y="12988"/>
                  <a:pt x="19963" y="12975"/>
                  <a:pt x="19963" y="13018"/>
                </a:cubicBezTo>
                <a:cubicBezTo>
                  <a:pt x="19935" y="13027"/>
                  <a:pt x="19943" y="13023"/>
                  <a:pt x="19943" y="13057"/>
                </a:cubicBezTo>
                <a:cubicBezTo>
                  <a:pt x="19925" y="13063"/>
                  <a:pt x="19912" y="13091"/>
                  <a:pt x="19903" y="13117"/>
                </a:cubicBezTo>
                <a:cubicBezTo>
                  <a:pt x="19903" y="13124"/>
                  <a:pt x="19903" y="13130"/>
                  <a:pt x="19903" y="13137"/>
                </a:cubicBezTo>
                <a:cubicBezTo>
                  <a:pt x="19871" y="13147"/>
                  <a:pt x="19895" y="13146"/>
                  <a:pt x="19864" y="13156"/>
                </a:cubicBezTo>
                <a:cubicBezTo>
                  <a:pt x="19864" y="13176"/>
                  <a:pt x="19864" y="13196"/>
                  <a:pt x="19864" y="13216"/>
                </a:cubicBezTo>
                <a:cubicBezTo>
                  <a:pt x="19822" y="13216"/>
                  <a:pt x="19824" y="13214"/>
                  <a:pt x="19824" y="13256"/>
                </a:cubicBezTo>
                <a:cubicBezTo>
                  <a:pt x="19797" y="13265"/>
                  <a:pt x="19799" y="13283"/>
                  <a:pt x="19764" y="13295"/>
                </a:cubicBezTo>
                <a:cubicBezTo>
                  <a:pt x="19733" y="13306"/>
                  <a:pt x="19757" y="13304"/>
                  <a:pt x="19725" y="13315"/>
                </a:cubicBezTo>
              </a:path>
              <a:path w="3870" h="5121">
                <a:moveTo>
                  <a:pt x="19745" y="13335"/>
                </a:moveTo>
                <a:cubicBezTo>
                  <a:pt x="19784" y="13325"/>
                  <a:pt x="19784" y="13315"/>
                  <a:pt x="19784" y="13275"/>
                </a:cubicBezTo>
                <a:cubicBezTo>
                  <a:pt x="19847" y="13275"/>
                  <a:pt x="19796" y="13258"/>
                  <a:pt x="19824" y="13236"/>
                </a:cubicBezTo>
                <a:cubicBezTo>
                  <a:pt x="19833" y="13229"/>
                  <a:pt x="19859" y="13199"/>
                  <a:pt x="19864" y="13196"/>
                </a:cubicBezTo>
                <a:cubicBezTo>
                  <a:pt x="19885" y="13185"/>
                  <a:pt x="19891" y="13151"/>
                  <a:pt x="19923" y="13137"/>
                </a:cubicBezTo>
                <a:cubicBezTo>
                  <a:pt x="19930" y="13134"/>
                  <a:pt x="19978" y="13104"/>
                  <a:pt x="19983" y="13097"/>
                </a:cubicBezTo>
                <a:cubicBezTo>
                  <a:pt x="19995" y="13079"/>
                  <a:pt x="20038" y="13025"/>
                  <a:pt x="20042" y="13018"/>
                </a:cubicBezTo>
                <a:cubicBezTo>
                  <a:pt x="20060" y="12982"/>
                  <a:pt x="20026" y="12978"/>
                  <a:pt x="20082" y="12978"/>
                </a:cubicBezTo>
                <a:cubicBezTo>
                  <a:pt x="20114" y="12978"/>
                  <a:pt x="20097" y="12958"/>
                  <a:pt x="20141" y="12958"/>
                </a:cubicBezTo>
                <a:cubicBezTo>
                  <a:pt x="20161" y="12958"/>
                  <a:pt x="20168" y="12958"/>
                  <a:pt x="20181" y="12958"/>
                </a:cubicBezTo>
                <a:cubicBezTo>
                  <a:pt x="20136" y="12958"/>
                  <a:pt x="20122" y="12968"/>
                  <a:pt x="20102" y="12978"/>
                </a:cubicBezTo>
                <a:cubicBezTo>
                  <a:pt x="20073" y="12993"/>
                  <a:pt x="20064" y="12981"/>
                  <a:pt x="20042" y="12998"/>
                </a:cubicBezTo>
                <a:cubicBezTo>
                  <a:pt x="20019" y="13015"/>
                  <a:pt x="19957" y="13024"/>
                  <a:pt x="19983" y="13037"/>
                </a:cubicBezTo>
                <a:cubicBezTo>
                  <a:pt x="20014" y="13052"/>
                  <a:pt x="20058" y="13019"/>
                  <a:pt x="20062" y="13018"/>
                </a:cubicBezTo>
                <a:cubicBezTo>
                  <a:pt x="20082" y="13010"/>
                  <a:pt x="20099" y="13011"/>
                  <a:pt x="20122" y="12998"/>
                </a:cubicBezTo>
                <a:cubicBezTo>
                  <a:pt x="20166" y="12973"/>
                  <a:pt x="20134" y="12998"/>
                  <a:pt x="20102"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57160" y="1685880"/>
            <a:ext cx="1800" cy="1800"/>
          </a:xfrm>
          <a:custGeom>
            <a:avLst/>
            <a:gdLst/>
            <a:ahLst/>
            <a:rect l="l" t="t" r="r" b="b"/>
            <a:pathLst>
              <a:path w="1" h="1">
                <a:moveTo>
                  <a:pt x="2381" y="4683"/>
                </a:moveTo>
                <a:lnTo>
                  <a:pt x="2381" y="468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
          <p:cNvSpPr/>
          <p:nvPr/>
        </p:nvSpPr>
        <p:spPr>
          <a:xfrm>
            <a:off x="1185840" y="1700280"/>
            <a:ext cx="1440" cy="1440"/>
          </a:xfrm>
          <a:custGeom>
            <a:avLst/>
            <a:gdLst/>
            <a:ahLst/>
            <a:rect l="l" t="t" r="r" b="b"/>
            <a:pathLst>
              <a:path w="1" h="1">
                <a:moveTo>
                  <a:pt x="3294" y="4723"/>
                </a:moveTo>
                <a:lnTo>
                  <a:pt x="3294" y="472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 name=""/>
          <p:cNvSpPr/>
          <p:nvPr/>
        </p:nvSpPr>
        <p:spPr>
          <a:xfrm>
            <a:off x="1814400" y="2143080"/>
            <a:ext cx="1800" cy="1800"/>
          </a:xfrm>
          <a:custGeom>
            <a:avLst/>
            <a:gdLst/>
            <a:ahLst/>
            <a:rect l="l" t="t" r="r" b="b"/>
            <a:pathLst>
              <a:path w="1" h="1">
                <a:moveTo>
                  <a:pt x="5040" y="5953"/>
                </a:moveTo>
                <a:lnTo>
                  <a:pt x="5040" y="595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6" name=""/>
          <p:cNvSpPr/>
          <p:nvPr/>
        </p:nvSpPr>
        <p:spPr>
          <a:xfrm>
            <a:off x="1363680" y="3835440"/>
            <a:ext cx="1440" cy="1440"/>
          </a:xfrm>
          <a:custGeom>
            <a:avLst/>
            <a:gdLst/>
            <a:ahLst/>
            <a:rect l="l" t="t" r="r" b="b"/>
            <a:pathLst>
              <a:path w="1" h="1">
                <a:moveTo>
                  <a:pt x="3790" y="10656"/>
                </a:moveTo>
                <a:lnTo>
                  <a:pt x="3790" y="1065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 name=""/>
          <p:cNvSpPr/>
          <p:nvPr/>
        </p:nvSpPr>
        <p:spPr>
          <a:xfrm>
            <a:off x="2522520" y="3843360"/>
            <a:ext cx="1440" cy="1440"/>
          </a:xfrm>
          <a:custGeom>
            <a:avLst/>
            <a:gdLst/>
            <a:ahLst/>
            <a:rect l="l" t="t" r="r" b="b"/>
            <a:pathLst>
              <a:path w="1" h="1">
                <a:moveTo>
                  <a:pt x="7005" y="10676"/>
                </a:moveTo>
                <a:lnTo>
                  <a:pt x="7005" y="1067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
          <p:cNvSpPr/>
          <p:nvPr/>
        </p:nvSpPr>
        <p:spPr>
          <a:xfrm>
            <a:off x="2386080" y="2135160"/>
            <a:ext cx="1440" cy="1440"/>
          </a:xfrm>
          <a:custGeom>
            <a:avLst/>
            <a:gdLst/>
            <a:ahLst/>
            <a:rect l="l" t="t" r="r" b="b"/>
            <a:pathLst>
              <a:path w="1" h="1">
                <a:moveTo>
                  <a:pt x="6628" y="5933"/>
                </a:moveTo>
                <a:lnTo>
                  <a:pt x="6628" y="593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a:off x="2379600" y="2192400"/>
            <a:ext cx="1800" cy="1440"/>
          </a:xfrm>
          <a:custGeom>
            <a:avLst/>
            <a:gdLst/>
            <a:ahLst/>
            <a:rect l="l" t="t" r="r" b="b"/>
            <a:pathLst>
              <a:path w="1" h="1">
                <a:moveTo>
                  <a:pt x="6608" y="6092"/>
                </a:moveTo>
                <a:lnTo>
                  <a:pt x="6608" y="6092"/>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3122640" y="2143080"/>
            <a:ext cx="1440" cy="1800"/>
          </a:xfrm>
          <a:custGeom>
            <a:avLst/>
            <a:gdLst/>
            <a:ahLst/>
            <a:rect l="l" t="t" r="r" b="b"/>
            <a:pathLst>
              <a:path w="1" h="1">
                <a:moveTo>
                  <a:pt x="8672" y="5953"/>
                </a:moveTo>
                <a:lnTo>
                  <a:pt x="8672" y="595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
          <p:cNvSpPr/>
          <p:nvPr/>
        </p:nvSpPr>
        <p:spPr>
          <a:xfrm>
            <a:off x="2928960" y="2714760"/>
            <a:ext cx="1440" cy="1440"/>
          </a:xfrm>
          <a:custGeom>
            <a:avLst/>
            <a:gdLst/>
            <a:ahLst/>
            <a:rect l="l" t="t" r="r" b="b"/>
            <a:pathLst>
              <a:path w="1" h="1">
                <a:moveTo>
                  <a:pt x="8136" y="7541"/>
                </a:moveTo>
                <a:lnTo>
                  <a:pt x="8136"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2151000" y="2735280"/>
            <a:ext cx="1800" cy="1440"/>
          </a:xfrm>
          <a:custGeom>
            <a:avLst/>
            <a:gdLst/>
            <a:ahLst/>
            <a:rect l="l" t="t" r="r" b="b"/>
            <a:pathLst>
              <a:path w="1" h="1">
                <a:moveTo>
                  <a:pt x="5973" y="7600"/>
                </a:moveTo>
                <a:lnTo>
                  <a:pt x="5973" y="7600"/>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1728720" y="2714760"/>
            <a:ext cx="1800" cy="1440"/>
          </a:xfrm>
          <a:custGeom>
            <a:avLst/>
            <a:gdLst/>
            <a:ahLst/>
            <a:rect l="l" t="t" r="r" b="b"/>
            <a:pathLst>
              <a:path w="1" h="1">
                <a:moveTo>
                  <a:pt x="4802" y="7541"/>
                </a:moveTo>
                <a:lnTo>
                  <a:pt x="4802"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1936800" y="2708280"/>
            <a:ext cx="1440" cy="1440"/>
          </a:xfrm>
          <a:custGeom>
            <a:avLst/>
            <a:gdLst/>
            <a:ahLst/>
            <a:rect l="l" t="t" r="r" b="b"/>
            <a:pathLst>
              <a:path w="1" h="1">
                <a:moveTo>
                  <a:pt x="5378" y="7521"/>
                </a:moveTo>
                <a:lnTo>
                  <a:pt x="5378" y="752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1171440" y="2714760"/>
            <a:ext cx="1800" cy="1440"/>
          </a:xfrm>
          <a:custGeom>
            <a:avLst/>
            <a:gdLst/>
            <a:ahLst/>
            <a:rect l="l" t="t" r="r" b="b"/>
            <a:pathLst>
              <a:path w="1" h="1">
                <a:moveTo>
                  <a:pt x="3254" y="7541"/>
                </a:moveTo>
                <a:lnTo>
                  <a:pt x="3254" y="754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2708280" y="2665440"/>
            <a:ext cx="1440" cy="1440"/>
          </a:xfrm>
          <a:custGeom>
            <a:avLst/>
            <a:gdLst/>
            <a:ahLst/>
            <a:rect l="l" t="t" r="r" b="b"/>
            <a:pathLst>
              <a:path w="1" h="1">
                <a:moveTo>
                  <a:pt x="7521" y="7402"/>
                </a:moveTo>
                <a:lnTo>
                  <a:pt x="7521" y="7402"/>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1400040" y="2151000"/>
            <a:ext cx="1800" cy="1800"/>
          </a:xfrm>
          <a:custGeom>
            <a:avLst/>
            <a:gdLst/>
            <a:ahLst/>
            <a:rect l="l" t="t" r="r" b="b"/>
            <a:pathLst>
              <a:path w="1" h="1">
                <a:moveTo>
                  <a:pt x="3889" y="5973"/>
                </a:moveTo>
                <a:lnTo>
                  <a:pt x="3889" y="597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 name=""/>
          <p:cNvSpPr/>
          <p:nvPr/>
        </p:nvSpPr>
        <p:spPr>
          <a:xfrm>
            <a:off x="2649600" y="2151000"/>
            <a:ext cx="1440" cy="1800"/>
          </a:xfrm>
          <a:custGeom>
            <a:avLst/>
            <a:gdLst/>
            <a:ahLst/>
            <a:rect l="l" t="t" r="r" b="b"/>
            <a:pathLst>
              <a:path w="1" h="1">
                <a:moveTo>
                  <a:pt x="7362" y="5973"/>
                </a:moveTo>
                <a:lnTo>
                  <a:pt x="7362" y="5973"/>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 name=""/>
          <p:cNvSpPr/>
          <p:nvPr/>
        </p:nvSpPr>
        <p:spPr>
          <a:xfrm>
            <a:off x="2894040" y="2228760"/>
            <a:ext cx="1440" cy="1800"/>
          </a:xfrm>
          <a:custGeom>
            <a:avLst/>
            <a:gdLst/>
            <a:ahLst/>
            <a:rect l="l" t="t" r="r" b="b"/>
            <a:pathLst>
              <a:path w="1" h="1">
                <a:moveTo>
                  <a:pt x="8037" y="6191"/>
                </a:moveTo>
                <a:lnTo>
                  <a:pt x="8037" y="6191"/>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a:off x="1943280" y="3278160"/>
            <a:ext cx="1440" cy="1440"/>
          </a:xfrm>
          <a:custGeom>
            <a:avLst/>
            <a:gdLst/>
            <a:ahLst/>
            <a:rect l="l" t="t" r="r" b="b"/>
            <a:pathLst>
              <a:path w="1" h="1">
                <a:moveTo>
                  <a:pt x="5398" y="9108"/>
                </a:moveTo>
                <a:lnTo>
                  <a:pt x="5398" y="910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1622520" y="3286080"/>
            <a:ext cx="1440" cy="1800"/>
          </a:xfrm>
          <a:custGeom>
            <a:avLst/>
            <a:gdLst/>
            <a:ahLst/>
            <a:rect l="l" t="t" r="r" b="b"/>
            <a:pathLst>
              <a:path w="1" h="1">
                <a:moveTo>
                  <a:pt x="4505" y="9128"/>
                </a:moveTo>
                <a:lnTo>
                  <a:pt x="4505" y="912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1857240" y="3851280"/>
            <a:ext cx="1800" cy="1440"/>
          </a:xfrm>
          <a:custGeom>
            <a:avLst/>
            <a:gdLst/>
            <a:ahLst/>
            <a:rect l="l" t="t" r="r" b="b"/>
            <a:pathLst>
              <a:path w="1" h="1">
                <a:moveTo>
                  <a:pt x="5159" y="10696"/>
                </a:moveTo>
                <a:lnTo>
                  <a:pt x="5159" y="10696"/>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1343160" y="4386240"/>
            <a:ext cx="1440" cy="1440"/>
          </a:xfrm>
          <a:custGeom>
            <a:avLst/>
            <a:gdLst/>
            <a:ahLst/>
            <a:rect l="l" t="t" r="r" b="b"/>
            <a:pathLst>
              <a:path w="1" h="1">
                <a:moveTo>
                  <a:pt x="3731" y="12184"/>
                </a:moveTo>
                <a:lnTo>
                  <a:pt x="3731" y="12184"/>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1549440" y="4421160"/>
            <a:ext cx="1440" cy="1440"/>
          </a:xfrm>
          <a:custGeom>
            <a:avLst/>
            <a:gdLst/>
            <a:ahLst/>
            <a:rect l="l" t="t" r="r" b="b"/>
            <a:pathLst>
              <a:path w="1" h="1">
                <a:moveTo>
                  <a:pt x="4306" y="12283"/>
                </a:moveTo>
                <a:lnTo>
                  <a:pt x="4306" y="12283"/>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1300320" y="5557680"/>
            <a:ext cx="1440" cy="1800"/>
          </a:xfrm>
          <a:custGeom>
            <a:avLst/>
            <a:gdLst/>
            <a:ahLst/>
            <a:rect l="l" t="t" r="r" b="b"/>
            <a:pathLst>
              <a:path w="1" h="1">
                <a:moveTo>
                  <a:pt x="3612" y="15438"/>
                </a:moveTo>
                <a:lnTo>
                  <a:pt x="3612" y="1543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6" name=""/>
          <p:cNvSpPr/>
          <p:nvPr/>
        </p:nvSpPr>
        <p:spPr>
          <a:xfrm>
            <a:off x="1528920" y="5521320"/>
            <a:ext cx="1440" cy="1440"/>
          </a:xfrm>
          <a:custGeom>
            <a:avLst/>
            <a:gdLst/>
            <a:ahLst/>
            <a:rect l="l" t="t" r="r" b="b"/>
            <a:pathLst>
              <a:path w="1" h="1">
                <a:moveTo>
                  <a:pt x="4247" y="15339"/>
                </a:moveTo>
                <a:lnTo>
                  <a:pt x="4247" y="15339"/>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1735200" y="5557680"/>
            <a:ext cx="1440" cy="1800"/>
          </a:xfrm>
          <a:custGeom>
            <a:avLst/>
            <a:gdLst/>
            <a:ahLst/>
            <a:rect l="l" t="t" r="r" b="b"/>
            <a:pathLst>
              <a:path w="1" h="1">
                <a:moveTo>
                  <a:pt x="4822" y="15438"/>
                </a:moveTo>
                <a:lnTo>
                  <a:pt x="4822" y="1543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2671920" y="4986360"/>
            <a:ext cx="1440" cy="1440"/>
          </a:xfrm>
          <a:custGeom>
            <a:avLst/>
            <a:gdLst/>
            <a:ahLst/>
            <a:rect l="l" t="t" r="r" b="b"/>
            <a:pathLst>
              <a:path w="1" h="1">
                <a:moveTo>
                  <a:pt x="7422" y="13851"/>
                </a:moveTo>
                <a:lnTo>
                  <a:pt x="7422" y="1385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2886120" y="4986360"/>
            <a:ext cx="1440" cy="1440"/>
          </a:xfrm>
          <a:custGeom>
            <a:avLst/>
            <a:gdLst/>
            <a:ahLst/>
            <a:rect l="l" t="t" r="r" b="b"/>
            <a:pathLst>
              <a:path w="1" h="1">
                <a:moveTo>
                  <a:pt x="8017" y="13851"/>
                </a:moveTo>
                <a:lnTo>
                  <a:pt x="8017" y="13851"/>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1100160" y="3294000"/>
            <a:ext cx="1440" cy="1800"/>
          </a:xfrm>
          <a:custGeom>
            <a:avLst/>
            <a:gdLst/>
            <a:ahLst/>
            <a:rect l="l" t="t" r="r" b="b"/>
            <a:pathLst>
              <a:path w="1" h="1">
                <a:moveTo>
                  <a:pt x="3056" y="9148"/>
                </a:moveTo>
                <a:lnTo>
                  <a:pt x="3056" y="9148"/>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1100160" y="3186000"/>
            <a:ext cx="1440" cy="1800"/>
          </a:xfrm>
          <a:custGeom>
            <a:avLst/>
            <a:gdLst/>
            <a:ahLst/>
            <a:rect l="l" t="t" r="r" b="b"/>
            <a:pathLst>
              <a:path w="1" h="1">
                <a:moveTo>
                  <a:pt x="3056" y="8850"/>
                </a:moveTo>
                <a:lnTo>
                  <a:pt x="3056" y="8850"/>
                </a:lnTo>
              </a:path>
            </a:pathLst>
          </a:custGeom>
          <a:noFill/>
          <a:ln cap="sq" w="228600">
            <a:solidFill>
              <a:srgbClr val="00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 name=""/>
          <p:cNvSpPr/>
          <p:nvPr/>
        </p:nvSpPr>
        <p:spPr>
          <a:xfrm>
            <a:off x="2208240" y="3765600"/>
            <a:ext cx="1440" cy="1440"/>
          </a:xfrm>
          <a:custGeom>
            <a:avLst/>
            <a:gdLst/>
            <a:ahLst/>
            <a:rect l="l" t="t" r="r" b="b"/>
            <a:pathLst>
              <a:path w="1" h="1">
                <a:moveTo>
                  <a:pt x="6132" y="10458"/>
                </a:moveTo>
                <a:lnTo>
                  <a:pt x="6132" y="1045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2622600" y="3300480"/>
            <a:ext cx="1440" cy="1440"/>
          </a:xfrm>
          <a:custGeom>
            <a:avLst/>
            <a:gdLst/>
            <a:ahLst/>
            <a:rect l="l" t="t" r="r" b="b"/>
            <a:pathLst>
              <a:path w="1" h="1">
                <a:moveTo>
                  <a:pt x="7283" y="9168"/>
                </a:moveTo>
                <a:lnTo>
                  <a:pt x="7283" y="9168"/>
                </a:lnTo>
              </a:path>
            </a:pathLst>
          </a:custGeom>
          <a:noFill/>
          <a:ln cap="sq" w="228600">
            <a:solidFill>
              <a:srgbClr val="00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3494160" y="4822920"/>
            <a:ext cx="1434960" cy="1440"/>
          </a:xfrm>
          <a:custGeom>
            <a:avLst/>
            <a:gdLst/>
            <a:ahLst/>
            <a:rect l="l" t="t" r="r" b="b"/>
            <a:pathLst>
              <a:path w="3989" h="1">
                <a:moveTo>
                  <a:pt x="9704" y="13395"/>
                </a:moveTo>
                <a:cubicBezTo>
                  <a:pt x="11033" y="13395"/>
                  <a:pt x="12363" y="13395"/>
                  <a:pt x="13692" y="13395"/>
                </a:cubicBezTo>
              </a:path>
            </a:pathLst>
          </a:custGeom>
          <a:noFill/>
          <a:ln cap="sq" w="228600">
            <a:solidFill>
              <a:srgbClr val="33cccc">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3414600" y="4843440"/>
            <a:ext cx="1579680" cy="343080"/>
          </a:xfrm>
          <a:custGeom>
            <a:avLst/>
            <a:gdLst/>
            <a:ahLst/>
            <a:rect l="l" t="t" r="r" b="b"/>
            <a:pathLst>
              <a:path w="4387" h="954">
                <a:moveTo>
                  <a:pt x="9585" y="13454"/>
                </a:moveTo>
                <a:cubicBezTo>
                  <a:pt x="10559" y="13454"/>
                  <a:pt x="11655" y="13292"/>
                  <a:pt x="12601" y="13474"/>
                </a:cubicBezTo>
                <a:cubicBezTo>
                  <a:pt x="12649" y="13483"/>
                  <a:pt x="12697" y="13507"/>
                  <a:pt x="12740" y="13514"/>
                </a:cubicBezTo>
                <a:cubicBezTo>
                  <a:pt x="13028" y="13560"/>
                  <a:pt x="13467" y="13514"/>
                  <a:pt x="13692" y="13514"/>
                </a:cubicBezTo>
                <a:cubicBezTo>
                  <a:pt x="13685" y="13514"/>
                  <a:pt x="13679" y="13514"/>
                  <a:pt x="13672" y="13514"/>
                </a:cubicBezTo>
                <a:cubicBezTo>
                  <a:pt x="12382" y="13514"/>
                  <a:pt x="11064" y="13445"/>
                  <a:pt x="9783" y="13533"/>
                </a:cubicBezTo>
                <a:cubicBezTo>
                  <a:pt x="9730" y="13537"/>
                  <a:pt x="9677" y="13530"/>
                  <a:pt x="9624" y="13533"/>
                </a:cubicBezTo>
                <a:cubicBezTo>
                  <a:pt x="9624" y="13607"/>
                  <a:pt x="9592" y="13899"/>
                  <a:pt x="9644" y="13930"/>
                </a:cubicBezTo>
                <a:cubicBezTo>
                  <a:pt x="10533" y="14468"/>
                  <a:pt x="13165" y="13228"/>
                  <a:pt x="13851" y="13950"/>
                </a:cubicBezTo>
                <a:cubicBezTo>
                  <a:pt x="13854" y="13953"/>
                  <a:pt x="13870" y="14044"/>
                  <a:pt x="13871" y="14049"/>
                </a:cubicBezTo>
                <a:cubicBezTo>
                  <a:pt x="13886" y="14144"/>
                  <a:pt x="13867" y="14284"/>
                  <a:pt x="13851" y="14347"/>
                </a:cubicBezTo>
                <a:cubicBezTo>
                  <a:pt x="13843" y="14378"/>
                  <a:pt x="13843" y="14378"/>
                  <a:pt x="13831" y="14407"/>
                </a:cubicBezTo>
                <a:cubicBezTo>
                  <a:pt x="13786" y="14396"/>
                  <a:pt x="13760" y="14371"/>
                  <a:pt x="13732" y="14367"/>
                </a:cubicBezTo>
                <a:cubicBezTo>
                  <a:pt x="12698" y="14210"/>
                  <a:pt x="11532" y="14418"/>
                  <a:pt x="10517" y="14347"/>
                </a:cubicBezTo>
                <a:cubicBezTo>
                  <a:pt x="10293" y="14331"/>
                  <a:pt x="10016" y="14340"/>
                  <a:pt x="9823" y="14327"/>
                </a:cubicBezTo>
                <a:cubicBezTo>
                  <a:pt x="9739" y="14321"/>
                  <a:pt x="9552" y="14356"/>
                  <a:pt x="9505" y="14307"/>
                </a:cubicBezTo>
                <a:cubicBezTo>
                  <a:pt x="9483" y="14284"/>
                  <a:pt x="9494" y="14291"/>
                  <a:pt x="9485" y="14248"/>
                </a:cubicBezTo>
                <a:cubicBezTo>
                  <a:pt x="9468" y="14170"/>
                  <a:pt x="9502" y="14057"/>
                  <a:pt x="9505" y="14010"/>
                </a:cubicBezTo>
                <a:cubicBezTo>
                  <a:pt x="9518" y="13827"/>
                  <a:pt x="9505" y="13638"/>
                  <a:pt x="9505" y="13454"/>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421080" y="4808520"/>
            <a:ext cx="1573200" cy="192240"/>
          </a:xfrm>
          <a:custGeom>
            <a:avLst/>
            <a:gdLst/>
            <a:ahLst/>
            <a:rect l="l" t="t" r="r" b="b"/>
            <a:pathLst>
              <a:path w="4367" h="537">
                <a:moveTo>
                  <a:pt x="13871" y="13891"/>
                </a:moveTo>
                <a:cubicBezTo>
                  <a:pt x="13871" y="13745"/>
                  <a:pt x="13871" y="13600"/>
                  <a:pt x="13871" y="13454"/>
                </a:cubicBezTo>
                <a:cubicBezTo>
                  <a:pt x="13846" y="13442"/>
                  <a:pt x="13848" y="13422"/>
                  <a:pt x="13811" y="13414"/>
                </a:cubicBezTo>
                <a:cubicBezTo>
                  <a:pt x="13377" y="13323"/>
                  <a:pt x="12826" y="13414"/>
                  <a:pt x="12382" y="13414"/>
                </a:cubicBezTo>
                <a:cubicBezTo>
                  <a:pt x="12381" y="13414"/>
                  <a:pt x="12349" y="13398"/>
                  <a:pt x="12323" y="13395"/>
                </a:cubicBezTo>
                <a:cubicBezTo>
                  <a:pt x="12252" y="13388"/>
                  <a:pt x="12176" y="13395"/>
                  <a:pt x="12105" y="13395"/>
                </a:cubicBezTo>
                <a:cubicBezTo>
                  <a:pt x="12103" y="13395"/>
                  <a:pt x="12072" y="13378"/>
                  <a:pt x="12045" y="13375"/>
                </a:cubicBezTo>
                <a:cubicBezTo>
                  <a:pt x="11726" y="13342"/>
                  <a:pt x="11388" y="13381"/>
                  <a:pt x="11073" y="13355"/>
                </a:cubicBezTo>
                <a:cubicBezTo>
                  <a:pt x="10559" y="13312"/>
                  <a:pt x="10021" y="13355"/>
                  <a:pt x="9505" y="1335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257640" y="2543040"/>
            <a:ext cx="614160" cy="1185840"/>
          </a:xfrm>
          <a:custGeom>
            <a:avLst/>
            <a:gdLst/>
            <a:ahLst/>
            <a:rect l="l" t="t" r="r" b="b"/>
            <a:pathLst>
              <a:path w="1707" h="3295">
                <a:moveTo>
                  <a:pt x="9247" y="7124"/>
                </a:moveTo>
                <a:cubicBezTo>
                  <a:pt x="9244" y="7166"/>
                  <a:pt x="9232" y="7207"/>
                  <a:pt x="9227" y="7223"/>
                </a:cubicBezTo>
                <a:cubicBezTo>
                  <a:pt x="9218" y="7254"/>
                  <a:pt x="9211" y="7260"/>
                  <a:pt x="9208" y="7283"/>
                </a:cubicBezTo>
                <a:cubicBezTo>
                  <a:pt x="9186" y="7467"/>
                  <a:pt x="9202" y="7702"/>
                  <a:pt x="9188" y="7858"/>
                </a:cubicBezTo>
                <a:cubicBezTo>
                  <a:pt x="9113" y="8676"/>
                  <a:pt x="9188" y="9536"/>
                  <a:pt x="9188" y="10358"/>
                </a:cubicBezTo>
                <a:cubicBezTo>
                  <a:pt x="9222" y="10338"/>
                  <a:pt x="9196" y="10330"/>
                  <a:pt x="9247" y="10319"/>
                </a:cubicBezTo>
                <a:cubicBezTo>
                  <a:pt x="9569" y="10249"/>
                  <a:pt x="9967" y="10319"/>
                  <a:pt x="10299" y="10319"/>
                </a:cubicBezTo>
                <a:cubicBezTo>
                  <a:pt x="10256" y="10304"/>
                  <a:pt x="10206" y="10293"/>
                  <a:pt x="10160" y="10279"/>
                </a:cubicBezTo>
                <a:cubicBezTo>
                  <a:pt x="10079" y="10255"/>
                  <a:pt x="10002" y="10238"/>
                  <a:pt x="9922" y="10220"/>
                </a:cubicBezTo>
                <a:cubicBezTo>
                  <a:pt x="9878" y="10210"/>
                  <a:pt x="9821" y="10186"/>
                  <a:pt x="9783" y="10180"/>
                </a:cubicBezTo>
                <a:cubicBezTo>
                  <a:pt x="9690" y="10165"/>
                  <a:pt x="9570" y="10184"/>
                  <a:pt x="9505" y="10160"/>
                </a:cubicBezTo>
                <a:cubicBezTo>
                  <a:pt x="9499" y="10158"/>
                  <a:pt x="9453" y="10128"/>
                  <a:pt x="9426" y="10120"/>
                </a:cubicBezTo>
                <a:cubicBezTo>
                  <a:pt x="9398" y="10112"/>
                  <a:pt x="9354" y="10084"/>
                  <a:pt x="9346" y="10081"/>
                </a:cubicBezTo>
                <a:cubicBezTo>
                  <a:pt x="9340" y="10081"/>
                  <a:pt x="9333" y="10081"/>
                  <a:pt x="9327" y="10081"/>
                </a:cubicBezTo>
                <a:cubicBezTo>
                  <a:pt x="9328" y="10081"/>
                  <a:pt x="9364" y="10066"/>
                  <a:pt x="9386" y="10061"/>
                </a:cubicBezTo>
                <a:cubicBezTo>
                  <a:pt x="9421" y="10053"/>
                  <a:pt x="9447" y="10050"/>
                  <a:pt x="9485" y="10041"/>
                </a:cubicBezTo>
                <a:cubicBezTo>
                  <a:pt x="9513" y="10035"/>
                  <a:pt x="9535" y="10029"/>
                  <a:pt x="9565" y="10021"/>
                </a:cubicBezTo>
                <a:cubicBezTo>
                  <a:pt x="9632" y="10004"/>
                  <a:pt x="9699" y="9985"/>
                  <a:pt x="9763" y="9962"/>
                </a:cubicBezTo>
                <a:cubicBezTo>
                  <a:pt x="9826" y="9940"/>
                  <a:pt x="9880" y="9917"/>
                  <a:pt x="9942" y="9902"/>
                </a:cubicBezTo>
                <a:cubicBezTo>
                  <a:pt x="9990" y="9891"/>
                  <a:pt x="10032" y="9890"/>
                  <a:pt x="10081" y="9882"/>
                </a:cubicBezTo>
                <a:cubicBezTo>
                  <a:pt x="10112" y="9877"/>
                  <a:pt x="10131" y="9864"/>
                  <a:pt x="10160" y="9862"/>
                </a:cubicBezTo>
                <a:cubicBezTo>
                  <a:pt x="10303" y="9850"/>
                  <a:pt x="10459" y="9851"/>
                  <a:pt x="10597" y="9842"/>
                </a:cubicBezTo>
                <a:cubicBezTo>
                  <a:pt x="10632" y="9840"/>
                  <a:pt x="10689" y="9825"/>
                  <a:pt x="10696" y="9823"/>
                </a:cubicBezTo>
                <a:cubicBezTo>
                  <a:pt x="10680" y="9814"/>
                  <a:pt x="10655" y="9776"/>
                  <a:pt x="10616" y="9763"/>
                </a:cubicBezTo>
                <a:cubicBezTo>
                  <a:pt x="10554" y="9743"/>
                  <a:pt x="10483" y="9745"/>
                  <a:pt x="10418" y="9743"/>
                </a:cubicBezTo>
                <a:cubicBezTo>
                  <a:pt x="9979" y="9732"/>
                  <a:pt x="9448" y="9799"/>
                  <a:pt x="9049" y="9723"/>
                </a:cubicBezTo>
                <a:cubicBezTo>
                  <a:pt x="9065" y="9706"/>
                  <a:pt x="9082" y="9681"/>
                  <a:pt x="9108" y="9664"/>
                </a:cubicBezTo>
                <a:cubicBezTo>
                  <a:pt x="9161" y="9630"/>
                  <a:pt x="9205" y="9606"/>
                  <a:pt x="9267" y="9585"/>
                </a:cubicBezTo>
                <a:cubicBezTo>
                  <a:pt x="9365" y="9552"/>
                  <a:pt x="9483" y="9544"/>
                  <a:pt x="9585" y="9525"/>
                </a:cubicBezTo>
                <a:cubicBezTo>
                  <a:pt x="9724" y="9499"/>
                  <a:pt x="9840" y="9485"/>
                  <a:pt x="9981" y="9485"/>
                </a:cubicBezTo>
                <a:cubicBezTo>
                  <a:pt x="10120" y="9485"/>
                  <a:pt x="10224" y="9475"/>
                  <a:pt x="10358" y="9446"/>
                </a:cubicBezTo>
                <a:cubicBezTo>
                  <a:pt x="10456" y="9425"/>
                  <a:pt x="10543" y="9425"/>
                  <a:pt x="10636" y="9386"/>
                </a:cubicBezTo>
                <a:cubicBezTo>
                  <a:pt x="10657" y="9377"/>
                  <a:pt x="10671" y="9361"/>
                  <a:pt x="10696" y="9346"/>
                </a:cubicBezTo>
                <a:cubicBezTo>
                  <a:pt x="10707" y="9339"/>
                  <a:pt x="10743" y="9302"/>
                  <a:pt x="10755" y="9287"/>
                </a:cubicBezTo>
                <a:cubicBezTo>
                  <a:pt x="10755" y="9280"/>
                  <a:pt x="10755" y="9274"/>
                  <a:pt x="10755" y="9267"/>
                </a:cubicBezTo>
                <a:cubicBezTo>
                  <a:pt x="10710" y="9254"/>
                  <a:pt x="10669" y="9233"/>
                  <a:pt x="10616" y="9227"/>
                </a:cubicBezTo>
                <a:cubicBezTo>
                  <a:pt x="10526" y="9217"/>
                  <a:pt x="10428" y="9215"/>
                  <a:pt x="10339" y="9208"/>
                </a:cubicBezTo>
                <a:cubicBezTo>
                  <a:pt x="10254" y="9201"/>
                  <a:pt x="10183" y="9203"/>
                  <a:pt x="10100" y="9188"/>
                </a:cubicBezTo>
                <a:cubicBezTo>
                  <a:pt x="10045" y="9178"/>
                  <a:pt x="9994" y="9153"/>
                  <a:pt x="9942" y="9128"/>
                </a:cubicBezTo>
                <a:cubicBezTo>
                  <a:pt x="9906" y="9111"/>
                  <a:pt x="9875" y="9095"/>
                  <a:pt x="9823" y="9088"/>
                </a:cubicBezTo>
                <a:cubicBezTo>
                  <a:pt x="9766" y="9080"/>
                  <a:pt x="9719" y="9081"/>
                  <a:pt x="9664" y="9069"/>
                </a:cubicBezTo>
                <a:cubicBezTo>
                  <a:pt x="9629" y="9061"/>
                  <a:pt x="9557" y="9032"/>
                  <a:pt x="9545" y="9029"/>
                </a:cubicBezTo>
                <a:cubicBezTo>
                  <a:pt x="9513" y="9021"/>
                  <a:pt x="9475" y="8994"/>
                  <a:pt x="9446" y="8989"/>
                </a:cubicBezTo>
                <a:cubicBezTo>
                  <a:pt x="9383" y="8978"/>
                  <a:pt x="9305" y="8982"/>
                  <a:pt x="9267" y="8969"/>
                </a:cubicBezTo>
                <a:cubicBezTo>
                  <a:pt x="9248" y="8963"/>
                  <a:pt x="9244" y="8960"/>
                  <a:pt x="9227" y="8950"/>
                </a:cubicBezTo>
                <a:cubicBezTo>
                  <a:pt x="9242" y="8922"/>
                  <a:pt x="9247" y="8901"/>
                  <a:pt x="9267" y="8870"/>
                </a:cubicBezTo>
                <a:cubicBezTo>
                  <a:pt x="9285" y="8841"/>
                  <a:pt x="9294" y="8821"/>
                  <a:pt x="9307" y="8791"/>
                </a:cubicBezTo>
                <a:cubicBezTo>
                  <a:pt x="9320" y="8762"/>
                  <a:pt x="9319" y="8755"/>
                  <a:pt x="9327" y="8731"/>
                </a:cubicBezTo>
                <a:cubicBezTo>
                  <a:pt x="9337" y="8704"/>
                  <a:pt x="9340" y="8684"/>
                  <a:pt x="9346" y="8672"/>
                </a:cubicBezTo>
                <a:cubicBezTo>
                  <a:pt x="9356" y="8652"/>
                  <a:pt x="9382" y="8619"/>
                  <a:pt x="9386" y="8612"/>
                </a:cubicBezTo>
                <a:cubicBezTo>
                  <a:pt x="9398" y="8590"/>
                  <a:pt x="9416" y="8557"/>
                  <a:pt x="9426" y="8533"/>
                </a:cubicBezTo>
                <a:cubicBezTo>
                  <a:pt x="9439" y="8502"/>
                  <a:pt x="9441" y="8468"/>
                  <a:pt x="9446" y="8434"/>
                </a:cubicBezTo>
                <a:cubicBezTo>
                  <a:pt x="9463" y="8311"/>
                  <a:pt x="9455" y="8148"/>
                  <a:pt x="9426" y="8037"/>
                </a:cubicBezTo>
                <a:cubicBezTo>
                  <a:pt x="9419" y="8011"/>
                  <a:pt x="9417" y="8011"/>
                  <a:pt x="9406" y="7977"/>
                </a:cubicBezTo>
                <a:cubicBezTo>
                  <a:pt x="9404" y="7969"/>
                  <a:pt x="9390" y="7949"/>
                  <a:pt x="9386" y="7918"/>
                </a:cubicBezTo>
                <a:cubicBezTo>
                  <a:pt x="9379" y="7866"/>
                  <a:pt x="9376" y="7822"/>
                  <a:pt x="9366" y="7779"/>
                </a:cubicBezTo>
                <a:cubicBezTo>
                  <a:pt x="9357" y="7740"/>
                  <a:pt x="9350" y="7719"/>
                  <a:pt x="9346" y="7680"/>
                </a:cubicBezTo>
                <a:cubicBezTo>
                  <a:pt x="9337" y="7588"/>
                  <a:pt x="9346" y="7387"/>
                  <a:pt x="9346" y="7362"/>
                </a:cubicBezTo>
                <a:cubicBezTo>
                  <a:pt x="9346" y="7369"/>
                  <a:pt x="9346" y="7375"/>
                  <a:pt x="9346" y="7382"/>
                </a:cubicBezTo>
                <a:cubicBezTo>
                  <a:pt x="9335" y="7444"/>
                  <a:pt x="9329" y="7493"/>
                  <a:pt x="9327" y="7560"/>
                </a:cubicBezTo>
                <a:cubicBezTo>
                  <a:pt x="9320" y="7841"/>
                  <a:pt x="9357" y="8142"/>
                  <a:pt x="9307" y="8414"/>
                </a:cubicBezTo>
                <a:cubicBezTo>
                  <a:pt x="9299" y="8455"/>
                  <a:pt x="9297" y="8492"/>
                  <a:pt x="9287" y="8533"/>
                </a:cubicBezTo>
                <a:cubicBezTo>
                  <a:pt x="9281" y="8558"/>
                  <a:pt x="9293" y="8508"/>
                  <a:pt x="9287" y="8533"/>
                </a:cubicBezTo>
                <a:cubicBezTo>
                  <a:pt x="9287" y="8043"/>
                  <a:pt x="9287" y="7554"/>
                  <a:pt x="9287" y="7064"/>
                </a:cubicBezTo>
                <a:cubicBezTo>
                  <a:pt x="9344" y="7068"/>
                  <a:pt x="9397" y="7055"/>
                  <a:pt x="9426" y="7084"/>
                </a:cubicBezTo>
                <a:cubicBezTo>
                  <a:pt x="9444" y="7102"/>
                  <a:pt x="9429" y="7122"/>
                  <a:pt x="9446" y="7144"/>
                </a:cubicBezTo>
                <a:cubicBezTo>
                  <a:pt x="9475" y="7180"/>
                  <a:pt x="9443" y="7156"/>
                  <a:pt x="9485" y="7183"/>
                </a:cubicBezTo>
                <a:cubicBezTo>
                  <a:pt x="9505" y="7196"/>
                  <a:pt x="9504" y="7196"/>
                  <a:pt x="9545" y="7203"/>
                </a:cubicBezTo>
                <a:cubicBezTo>
                  <a:pt x="9588" y="7210"/>
                  <a:pt x="9602" y="7210"/>
                  <a:pt x="9624" y="7223"/>
                </a:cubicBezTo>
                <a:cubicBezTo>
                  <a:pt x="9647" y="7236"/>
                  <a:pt x="9653" y="7259"/>
                  <a:pt x="9664" y="7283"/>
                </a:cubicBezTo>
                <a:cubicBezTo>
                  <a:pt x="9676" y="7310"/>
                  <a:pt x="9672" y="7307"/>
                  <a:pt x="9684" y="7342"/>
                </a:cubicBezTo>
                <a:cubicBezTo>
                  <a:pt x="9698" y="7383"/>
                  <a:pt x="9678" y="7378"/>
                  <a:pt x="9704" y="7402"/>
                </a:cubicBezTo>
                <a:cubicBezTo>
                  <a:pt x="9719" y="7415"/>
                  <a:pt x="9748" y="7410"/>
                  <a:pt x="9763" y="7422"/>
                </a:cubicBezTo>
                <a:cubicBezTo>
                  <a:pt x="9774" y="7431"/>
                  <a:pt x="9791" y="7450"/>
                  <a:pt x="9803" y="7461"/>
                </a:cubicBezTo>
                <a:cubicBezTo>
                  <a:pt x="9815" y="7471"/>
                  <a:pt x="9831" y="7490"/>
                  <a:pt x="9842" y="7501"/>
                </a:cubicBezTo>
                <a:cubicBezTo>
                  <a:pt x="9874" y="7533"/>
                  <a:pt x="9829" y="7456"/>
                  <a:pt x="9862" y="7521"/>
                </a:cubicBezTo>
                <a:cubicBezTo>
                  <a:pt x="9864" y="7524"/>
                  <a:pt x="9880" y="7578"/>
                  <a:pt x="9882" y="7580"/>
                </a:cubicBezTo>
                <a:cubicBezTo>
                  <a:pt x="9918" y="7605"/>
                  <a:pt x="9901" y="7572"/>
                  <a:pt x="9922" y="7580"/>
                </a:cubicBezTo>
                <a:cubicBezTo>
                  <a:pt x="9961" y="7594"/>
                  <a:pt x="9958" y="7580"/>
                  <a:pt x="9981" y="7600"/>
                </a:cubicBezTo>
                <a:cubicBezTo>
                  <a:pt x="10001" y="7617"/>
                  <a:pt x="9997" y="7629"/>
                  <a:pt x="10021" y="7660"/>
                </a:cubicBezTo>
                <a:cubicBezTo>
                  <a:pt x="10043" y="7689"/>
                  <a:pt x="10046" y="7700"/>
                  <a:pt x="10061" y="7719"/>
                </a:cubicBezTo>
                <a:cubicBezTo>
                  <a:pt x="10076" y="7737"/>
                  <a:pt x="10090" y="7753"/>
                  <a:pt x="10100" y="7779"/>
                </a:cubicBezTo>
                <a:cubicBezTo>
                  <a:pt x="10113" y="7812"/>
                  <a:pt x="10104" y="7813"/>
                  <a:pt x="10120" y="7838"/>
                </a:cubicBezTo>
                <a:cubicBezTo>
                  <a:pt x="10132" y="7857"/>
                  <a:pt x="10152" y="7846"/>
                  <a:pt x="10160" y="7878"/>
                </a:cubicBezTo>
                <a:cubicBezTo>
                  <a:pt x="10169" y="7917"/>
                  <a:pt x="10175" y="7938"/>
                  <a:pt x="10180" y="7977"/>
                </a:cubicBezTo>
                <a:cubicBezTo>
                  <a:pt x="10190" y="8057"/>
                  <a:pt x="10147" y="8256"/>
                  <a:pt x="10200" y="8295"/>
                </a:cubicBezTo>
                <a:cubicBezTo>
                  <a:pt x="10212" y="8303"/>
                  <a:pt x="10245" y="8290"/>
                  <a:pt x="10259" y="829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414600" y="2814480"/>
            <a:ext cx="428760" cy="336600"/>
          </a:xfrm>
          <a:custGeom>
            <a:avLst/>
            <a:gdLst/>
            <a:ahLst/>
            <a:rect l="l" t="t" r="r" b="b"/>
            <a:pathLst>
              <a:path w="1192" h="934">
                <a:moveTo>
                  <a:pt x="10676" y="8751"/>
                </a:moveTo>
                <a:cubicBezTo>
                  <a:pt x="10632" y="8740"/>
                  <a:pt x="10645" y="8720"/>
                  <a:pt x="10597" y="8711"/>
                </a:cubicBezTo>
                <a:cubicBezTo>
                  <a:pt x="10540" y="8700"/>
                  <a:pt x="10472" y="8695"/>
                  <a:pt x="10418" y="8692"/>
                </a:cubicBezTo>
                <a:cubicBezTo>
                  <a:pt x="10142" y="8679"/>
                  <a:pt x="9862" y="8692"/>
                  <a:pt x="9585" y="8692"/>
                </a:cubicBezTo>
                <a:cubicBezTo>
                  <a:pt x="9631" y="8692"/>
                  <a:pt x="9638" y="8692"/>
                  <a:pt x="9684" y="8692"/>
                </a:cubicBezTo>
                <a:cubicBezTo>
                  <a:pt x="9818" y="8692"/>
                  <a:pt x="9997" y="8724"/>
                  <a:pt x="10120" y="8672"/>
                </a:cubicBezTo>
                <a:cubicBezTo>
                  <a:pt x="10147" y="8660"/>
                  <a:pt x="10173" y="8652"/>
                  <a:pt x="10180" y="8632"/>
                </a:cubicBezTo>
                <a:cubicBezTo>
                  <a:pt x="10193" y="8594"/>
                  <a:pt x="10171" y="8584"/>
                  <a:pt x="10160" y="8572"/>
                </a:cubicBezTo>
                <a:cubicBezTo>
                  <a:pt x="10140" y="8549"/>
                  <a:pt x="10078" y="8481"/>
                  <a:pt x="10061" y="8473"/>
                </a:cubicBezTo>
                <a:cubicBezTo>
                  <a:pt x="10036" y="8461"/>
                  <a:pt x="9967" y="8438"/>
                  <a:pt x="9942" y="8434"/>
                </a:cubicBezTo>
                <a:cubicBezTo>
                  <a:pt x="9843" y="8417"/>
                  <a:pt x="9725" y="8434"/>
                  <a:pt x="9624" y="8434"/>
                </a:cubicBezTo>
                <a:cubicBezTo>
                  <a:pt x="9657" y="8434"/>
                  <a:pt x="9651" y="8434"/>
                  <a:pt x="9684" y="8434"/>
                </a:cubicBezTo>
                <a:cubicBezTo>
                  <a:pt x="9770" y="8434"/>
                  <a:pt x="9856" y="8434"/>
                  <a:pt x="9942" y="8434"/>
                </a:cubicBezTo>
                <a:cubicBezTo>
                  <a:pt x="9937" y="8397"/>
                  <a:pt x="9951" y="8383"/>
                  <a:pt x="9922" y="8354"/>
                </a:cubicBezTo>
                <a:cubicBezTo>
                  <a:pt x="9899" y="8331"/>
                  <a:pt x="9859" y="8286"/>
                  <a:pt x="9823" y="8275"/>
                </a:cubicBezTo>
                <a:cubicBezTo>
                  <a:pt x="9764" y="8258"/>
                  <a:pt x="9704" y="8241"/>
                  <a:pt x="9644" y="8215"/>
                </a:cubicBezTo>
                <a:cubicBezTo>
                  <a:pt x="9602" y="8197"/>
                  <a:pt x="9562" y="8174"/>
                  <a:pt x="9525" y="8156"/>
                </a:cubicBezTo>
                <a:cubicBezTo>
                  <a:pt x="9651" y="8156"/>
                  <a:pt x="9776" y="8156"/>
                  <a:pt x="9902" y="8156"/>
                </a:cubicBezTo>
                <a:cubicBezTo>
                  <a:pt x="9858" y="8122"/>
                  <a:pt x="9851" y="8115"/>
                  <a:pt x="9803" y="8096"/>
                </a:cubicBezTo>
                <a:cubicBezTo>
                  <a:pt x="9754" y="8077"/>
                  <a:pt x="9709" y="8050"/>
                  <a:pt x="9664" y="8037"/>
                </a:cubicBezTo>
                <a:cubicBezTo>
                  <a:pt x="9639" y="8030"/>
                  <a:pt x="9559" y="8021"/>
                  <a:pt x="9545" y="7997"/>
                </a:cubicBezTo>
                <a:cubicBezTo>
                  <a:pt x="9533" y="7976"/>
                  <a:pt x="9561" y="7939"/>
                  <a:pt x="9565" y="7938"/>
                </a:cubicBezTo>
                <a:cubicBezTo>
                  <a:pt x="9591" y="7938"/>
                  <a:pt x="9604" y="7938"/>
                  <a:pt x="9624" y="7938"/>
                </a:cubicBezTo>
                <a:cubicBezTo>
                  <a:pt x="9631" y="7938"/>
                  <a:pt x="9637" y="7938"/>
                  <a:pt x="9644" y="7938"/>
                </a:cubicBezTo>
                <a:cubicBezTo>
                  <a:pt x="9606" y="7910"/>
                  <a:pt x="9585" y="7897"/>
                  <a:pt x="9545" y="7878"/>
                </a:cubicBezTo>
                <a:cubicBezTo>
                  <a:pt x="9522" y="7867"/>
                  <a:pt x="9485" y="7859"/>
                  <a:pt x="9485" y="7838"/>
                </a:cubicBezTo>
                <a:cubicBezTo>
                  <a:pt x="9485" y="7818"/>
                  <a:pt x="9485" y="7811"/>
                  <a:pt x="9505" y="7818"/>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429080" y="849240"/>
            <a:ext cx="1800" cy="1800"/>
          </a:xfrm>
          <a:custGeom>
            <a:avLst/>
            <a:gdLst/>
            <a:ahLst/>
            <a:rect l="l" t="t" r="r" b="b"/>
            <a:pathLst>
              <a:path w="1" h="1">
                <a:moveTo>
                  <a:pt x="12303" y="2361"/>
                </a:moveTo>
                <a:lnTo>
                  <a:pt x="12303" y="2361"/>
                </a:lnTo>
              </a:path>
            </a:pathLst>
          </a:custGeom>
          <a:noFill/>
          <a:ln cap="sq" w="228600">
            <a:solidFill>
              <a:srgbClr val="00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 name=""/>
          <p:cNvSpPr/>
          <p:nvPr/>
        </p:nvSpPr>
        <p:spPr>
          <a:xfrm>
            <a:off x="3665520" y="2894040"/>
            <a:ext cx="785880" cy="334800"/>
          </a:xfrm>
          <a:custGeom>
            <a:avLst/>
            <a:gdLst/>
            <a:ahLst/>
            <a:rect l="l" t="t" r="r" b="b"/>
            <a:pathLst>
              <a:path w="2184" h="933">
                <a:moveTo>
                  <a:pt x="10180" y="8037"/>
                </a:moveTo>
                <a:cubicBezTo>
                  <a:pt x="10180" y="8090"/>
                  <a:pt x="10189" y="8130"/>
                  <a:pt x="10200" y="8156"/>
                </a:cubicBezTo>
                <a:cubicBezTo>
                  <a:pt x="10212" y="8184"/>
                  <a:pt x="10214" y="8181"/>
                  <a:pt x="10239" y="8195"/>
                </a:cubicBezTo>
                <a:cubicBezTo>
                  <a:pt x="10271" y="8214"/>
                  <a:pt x="10271" y="8230"/>
                  <a:pt x="10299" y="8235"/>
                </a:cubicBezTo>
                <a:cubicBezTo>
                  <a:pt x="10337" y="8242"/>
                  <a:pt x="10362" y="8248"/>
                  <a:pt x="10378" y="8255"/>
                </a:cubicBezTo>
                <a:cubicBezTo>
                  <a:pt x="10385" y="8258"/>
                  <a:pt x="10432" y="8269"/>
                  <a:pt x="10438" y="8275"/>
                </a:cubicBezTo>
                <a:cubicBezTo>
                  <a:pt x="10451" y="8289"/>
                  <a:pt x="10466" y="8302"/>
                  <a:pt x="10478" y="8315"/>
                </a:cubicBezTo>
                <a:cubicBezTo>
                  <a:pt x="10496" y="8335"/>
                  <a:pt x="10491" y="8339"/>
                  <a:pt x="10517" y="8354"/>
                </a:cubicBezTo>
                <a:cubicBezTo>
                  <a:pt x="10540" y="8368"/>
                  <a:pt x="10540" y="8380"/>
                  <a:pt x="10557" y="8394"/>
                </a:cubicBezTo>
                <a:cubicBezTo>
                  <a:pt x="10571" y="8406"/>
                  <a:pt x="10602" y="8407"/>
                  <a:pt x="10616" y="8414"/>
                </a:cubicBezTo>
                <a:cubicBezTo>
                  <a:pt x="10656" y="8434"/>
                  <a:pt x="10656" y="8446"/>
                  <a:pt x="10696" y="8473"/>
                </a:cubicBezTo>
                <a:cubicBezTo>
                  <a:pt x="10721" y="8489"/>
                  <a:pt x="10756" y="8480"/>
                  <a:pt x="10775" y="8493"/>
                </a:cubicBezTo>
                <a:cubicBezTo>
                  <a:pt x="10787" y="8502"/>
                  <a:pt x="10800" y="8522"/>
                  <a:pt x="10815" y="8533"/>
                </a:cubicBezTo>
                <a:cubicBezTo>
                  <a:pt x="10844" y="8555"/>
                  <a:pt x="10855" y="8579"/>
                  <a:pt x="10874" y="8592"/>
                </a:cubicBezTo>
                <a:cubicBezTo>
                  <a:pt x="10895" y="8606"/>
                  <a:pt x="10905" y="8629"/>
                  <a:pt x="10934" y="8652"/>
                </a:cubicBezTo>
                <a:cubicBezTo>
                  <a:pt x="10953" y="8667"/>
                  <a:pt x="10969" y="8665"/>
                  <a:pt x="10993" y="8692"/>
                </a:cubicBezTo>
                <a:cubicBezTo>
                  <a:pt x="11007" y="8708"/>
                  <a:pt x="11006" y="8733"/>
                  <a:pt x="11033" y="8751"/>
                </a:cubicBezTo>
                <a:cubicBezTo>
                  <a:pt x="11064" y="8771"/>
                  <a:pt x="11107" y="8773"/>
                  <a:pt x="11132" y="8791"/>
                </a:cubicBezTo>
                <a:cubicBezTo>
                  <a:pt x="11158" y="8810"/>
                  <a:pt x="11179" y="8838"/>
                  <a:pt x="11192" y="8850"/>
                </a:cubicBezTo>
                <a:cubicBezTo>
                  <a:pt x="11206" y="8863"/>
                  <a:pt x="11228" y="8876"/>
                  <a:pt x="11251" y="8890"/>
                </a:cubicBezTo>
                <a:cubicBezTo>
                  <a:pt x="11256" y="8893"/>
                  <a:pt x="11316" y="8917"/>
                  <a:pt x="11331" y="8930"/>
                </a:cubicBezTo>
                <a:cubicBezTo>
                  <a:pt x="11371" y="8964"/>
                  <a:pt x="11339" y="8959"/>
                  <a:pt x="11390" y="8969"/>
                </a:cubicBezTo>
                <a:cubicBezTo>
                  <a:pt x="11492" y="8990"/>
                  <a:pt x="11697" y="8979"/>
                  <a:pt x="11767" y="8950"/>
                </a:cubicBezTo>
                <a:cubicBezTo>
                  <a:pt x="11790" y="8941"/>
                  <a:pt x="11800" y="8944"/>
                  <a:pt x="11827" y="8930"/>
                </a:cubicBezTo>
                <a:cubicBezTo>
                  <a:pt x="11841" y="8923"/>
                  <a:pt x="11867" y="8899"/>
                  <a:pt x="11886" y="8890"/>
                </a:cubicBezTo>
                <a:cubicBezTo>
                  <a:pt x="11903" y="8881"/>
                  <a:pt x="11906" y="8873"/>
                  <a:pt x="11946" y="8870"/>
                </a:cubicBezTo>
                <a:cubicBezTo>
                  <a:pt x="12084" y="8861"/>
                  <a:pt x="12225" y="8870"/>
                  <a:pt x="12363" y="8870"/>
                </a:cubicBezTo>
                <a:cubicBezTo>
                  <a:pt x="12350" y="8851"/>
                  <a:pt x="12335" y="8845"/>
                  <a:pt x="12323" y="8830"/>
                </a:cubicBezTo>
                <a:cubicBezTo>
                  <a:pt x="12289" y="8788"/>
                  <a:pt x="12304" y="8812"/>
                  <a:pt x="12263" y="8791"/>
                </a:cubicBezTo>
                <a:cubicBezTo>
                  <a:pt x="12247" y="8783"/>
                  <a:pt x="12229" y="8755"/>
                  <a:pt x="12204" y="8751"/>
                </a:cubicBezTo>
                <a:cubicBezTo>
                  <a:pt x="11978" y="8712"/>
                  <a:pt x="11644" y="8729"/>
                  <a:pt x="11450" y="8811"/>
                </a:cubicBezTo>
                <a:cubicBezTo>
                  <a:pt x="11333" y="8860"/>
                  <a:pt x="11196" y="8857"/>
                  <a:pt x="11073" y="8870"/>
                </a:cubicBezTo>
                <a:cubicBezTo>
                  <a:pt x="11035" y="8874"/>
                  <a:pt x="10993" y="8870"/>
                  <a:pt x="10954" y="8870"/>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451400" y="3049560"/>
            <a:ext cx="1528560" cy="2708280"/>
          </a:xfrm>
          <a:custGeom>
            <a:avLst/>
            <a:gdLst/>
            <a:ahLst/>
            <a:rect l="l" t="t" r="r" b="b"/>
            <a:pathLst>
              <a:path w="4247" h="7522">
                <a:moveTo>
                  <a:pt x="12363" y="8910"/>
                </a:moveTo>
                <a:cubicBezTo>
                  <a:pt x="12403" y="8910"/>
                  <a:pt x="12442" y="8910"/>
                  <a:pt x="12482" y="8910"/>
                </a:cubicBezTo>
                <a:cubicBezTo>
                  <a:pt x="12506" y="8894"/>
                  <a:pt x="12524" y="8934"/>
                  <a:pt x="12541" y="8910"/>
                </a:cubicBezTo>
                <a:cubicBezTo>
                  <a:pt x="12558" y="8886"/>
                  <a:pt x="12584" y="8872"/>
                  <a:pt x="12601" y="8850"/>
                </a:cubicBezTo>
                <a:cubicBezTo>
                  <a:pt x="12610" y="8838"/>
                  <a:pt x="12591" y="8803"/>
                  <a:pt x="12601" y="8791"/>
                </a:cubicBezTo>
                <a:cubicBezTo>
                  <a:pt x="12623" y="8785"/>
                  <a:pt x="12624" y="8783"/>
                  <a:pt x="12640" y="8771"/>
                </a:cubicBezTo>
                <a:cubicBezTo>
                  <a:pt x="12661" y="8728"/>
                  <a:pt x="12624" y="8741"/>
                  <a:pt x="12680" y="8731"/>
                </a:cubicBezTo>
                <a:cubicBezTo>
                  <a:pt x="12687" y="8731"/>
                  <a:pt x="12693" y="8731"/>
                  <a:pt x="12700" y="8731"/>
                </a:cubicBezTo>
                <a:cubicBezTo>
                  <a:pt x="12706" y="8709"/>
                  <a:pt x="12708" y="8708"/>
                  <a:pt x="12720" y="8692"/>
                </a:cubicBezTo>
                <a:cubicBezTo>
                  <a:pt x="12819" y="8692"/>
                  <a:pt x="12919" y="8692"/>
                  <a:pt x="13018" y="8692"/>
                </a:cubicBezTo>
                <a:cubicBezTo>
                  <a:pt x="13035" y="8680"/>
                  <a:pt x="13064" y="8665"/>
                  <a:pt x="13097" y="8652"/>
                </a:cubicBezTo>
                <a:cubicBezTo>
                  <a:pt x="13097" y="8632"/>
                  <a:pt x="13097" y="8612"/>
                  <a:pt x="13097" y="8592"/>
                </a:cubicBezTo>
                <a:cubicBezTo>
                  <a:pt x="13125" y="8574"/>
                  <a:pt x="13110" y="8592"/>
                  <a:pt x="13117" y="8553"/>
                </a:cubicBezTo>
                <a:cubicBezTo>
                  <a:pt x="13139" y="8549"/>
                  <a:pt x="13156" y="8542"/>
                  <a:pt x="13176" y="8533"/>
                </a:cubicBezTo>
                <a:cubicBezTo>
                  <a:pt x="13181" y="8511"/>
                  <a:pt x="13184" y="8510"/>
                  <a:pt x="13196" y="8493"/>
                </a:cubicBezTo>
                <a:cubicBezTo>
                  <a:pt x="13256" y="8488"/>
                  <a:pt x="13293" y="8474"/>
                  <a:pt x="13355" y="8473"/>
                </a:cubicBezTo>
                <a:cubicBezTo>
                  <a:pt x="13434" y="8472"/>
                  <a:pt x="13514" y="8475"/>
                  <a:pt x="13593" y="8473"/>
                </a:cubicBezTo>
                <a:cubicBezTo>
                  <a:pt x="13612" y="8496"/>
                  <a:pt x="13617" y="8518"/>
                  <a:pt x="13652" y="8533"/>
                </a:cubicBezTo>
                <a:cubicBezTo>
                  <a:pt x="13659" y="8533"/>
                  <a:pt x="13665" y="8533"/>
                  <a:pt x="13672" y="8533"/>
                </a:cubicBezTo>
                <a:cubicBezTo>
                  <a:pt x="13689" y="8582"/>
                  <a:pt x="13662" y="8556"/>
                  <a:pt x="13712" y="8572"/>
                </a:cubicBezTo>
                <a:cubicBezTo>
                  <a:pt x="13727" y="8598"/>
                  <a:pt x="13726" y="8593"/>
                  <a:pt x="13732" y="8632"/>
                </a:cubicBezTo>
                <a:cubicBezTo>
                  <a:pt x="13786" y="8636"/>
                  <a:pt x="13821" y="8642"/>
                  <a:pt x="13871" y="8652"/>
                </a:cubicBezTo>
                <a:cubicBezTo>
                  <a:pt x="13886" y="8677"/>
                  <a:pt x="13885" y="8673"/>
                  <a:pt x="13891" y="8711"/>
                </a:cubicBezTo>
                <a:cubicBezTo>
                  <a:pt x="13901" y="8729"/>
                  <a:pt x="13905" y="8732"/>
                  <a:pt x="13910" y="8771"/>
                </a:cubicBezTo>
                <a:cubicBezTo>
                  <a:pt x="13915" y="8784"/>
                  <a:pt x="13927" y="8812"/>
                  <a:pt x="13930" y="8850"/>
                </a:cubicBezTo>
                <a:cubicBezTo>
                  <a:pt x="13930" y="8857"/>
                  <a:pt x="13930" y="8863"/>
                  <a:pt x="13930" y="8870"/>
                </a:cubicBezTo>
                <a:cubicBezTo>
                  <a:pt x="14089" y="8870"/>
                  <a:pt x="14248" y="8870"/>
                  <a:pt x="14407" y="8870"/>
                </a:cubicBezTo>
                <a:cubicBezTo>
                  <a:pt x="14425" y="8898"/>
                  <a:pt x="14406" y="8883"/>
                  <a:pt x="14446" y="8890"/>
                </a:cubicBezTo>
                <a:cubicBezTo>
                  <a:pt x="14464" y="8918"/>
                  <a:pt x="14446" y="8903"/>
                  <a:pt x="14486" y="8910"/>
                </a:cubicBezTo>
                <a:cubicBezTo>
                  <a:pt x="14489" y="8942"/>
                  <a:pt x="14505" y="8925"/>
                  <a:pt x="14506" y="8969"/>
                </a:cubicBezTo>
                <a:cubicBezTo>
                  <a:pt x="14508" y="9055"/>
                  <a:pt x="14503" y="9141"/>
                  <a:pt x="14506" y="9227"/>
                </a:cubicBezTo>
                <a:cubicBezTo>
                  <a:pt x="14510" y="9238"/>
                  <a:pt x="14517" y="9277"/>
                  <a:pt x="14526" y="9307"/>
                </a:cubicBezTo>
                <a:cubicBezTo>
                  <a:pt x="14543" y="9325"/>
                  <a:pt x="14549" y="9329"/>
                  <a:pt x="14545" y="9346"/>
                </a:cubicBezTo>
                <a:cubicBezTo>
                  <a:pt x="14565" y="9346"/>
                  <a:pt x="14585" y="9346"/>
                  <a:pt x="14605" y="9346"/>
                </a:cubicBezTo>
                <a:cubicBezTo>
                  <a:pt x="14605" y="9240"/>
                  <a:pt x="14605" y="9135"/>
                  <a:pt x="14605" y="9029"/>
                </a:cubicBezTo>
                <a:cubicBezTo>
                  <a:pt x="14612" y="9024"/>
                  <a:pt x="14643" y="8990"/>
                  <a:pt x="14645" y="8989"/>
                </a:cubicBezTo>
                <a:cubicBezTo>
                  <a:pt x="14652" y="8989"/>
                  <a:pt x="14658" y="8989"/>
                  <a:pt x="14665" y="8989"/>
                </a:cubicBezTo>
                <a:cubicBezTo>
                  <a:pt x="14658" y="8989"/>
                  <a:pt x="14652" y="8989"/>
                  <a:pt x="14645" y="8989"/>
                </a:cubicBezTo>
                <a:cubicBezTo>
                  <a:pt x="14645" y="9009"/>
                  <a:pt x="14645" y="9029"/>
                  <a:pt x="14645" y="9049"/>
                </a:cubicBezTo>
                <a:cubicBezTo>
                  <a:pt x="14629" y="9069"/>
                  <a:pt x="14598" y="9094"/>
                  <a:pt x="14585" y="9128"/>
                </a:cubicBezTo>
                <a:cubicBezTo>
                  <a:pt x="14585" y="9135"/>
                  <a:pt x="14585" y="9141"/>
                  <a:pt x="14585" y="9148"/>
                </a:cubicBezTo>
                <a:cubicBezTo>
                  <a:pt x="14546" y="9180"/>
                  <a:pt x="14540" y="9213"/>
                  <a:pt x="14506" y="9247"/>
                </a:cubicBezTo>
                <a:cubicBezTo>
                  <a:pt x="14499" y="9247"/>
                  <a:pt x="14493" y="9247"/>
                  <a:pt x="14486" y="9247"/>
                </a:cubicBezTo>
                <a:cubicBezTo>
                  <a:pt x="14483" y="9347"/>
                  <a:pt x="14475" y="9434"/>
                  <a:pt x="14466" y="9525"/>
                </a:cubicBezTo>
                <a:cubicBezTo>
                  <a:pt x="14494" y="9543"/>
                  <a:pt x="14479" y="9525"/>
                  <a:pt x="14486" y="9565"/>
                </a:cubicBezTo>
                <a:cubicBezTo>
                  <a:pt x="14514" y="9583"/>
                  <a:pt x="14499" y="9565"/>
                  <a:pt x="14506" y="9604"/>
                </a:cubicBezTo>
                <a:cubicBezTo>
                  <a:pt x="14508" y="9612"/>
                  <a:pt x="14538" y="9655"/>
                  <a:pt x="14545" y="9684"/>
                </a:cubicBezTo>
                <a:cubicBezTo>
                  <a:pt x="14552" y="9713"/>
                  <a:pt x="14559" y="9735"/>
                  <a:pt x="14565" y="9763"/>
                </a:cubicBezTo>
                <a:cubicBezTo>
                  <a:pt x="14577" y="9824"/>
                  <a:pt x="14580" y="9878"/>
                  <a:pt x="14585" y="9942"/>
                </a:cubicBezTo>
                <a:cubicBezTo>
                  <a:pt x="14589" y="9988"/>
                  <a:pt x="14582" y="10035"/>
                  <a:pt x="14585" y="10081"/>
                </a:cubicBezTo>
                <a:cubicBezTo>
                  <a:pt x="14607" y="10086"/>
                  <a:pt x="14608" y="10088"/>
                  <a:pt x="14625" y="10100"/>
                </a:cubicBezTo>
                <a:cubicBezTo>
                  <a:pt x="14625" y="10120"/>
                  <a:pt x="14625" y="10140"/>
                  <a:pt x="14625" y="10160"/>
                </a:cubicBezTo>
                <a:cubicBezTo>
                  <a:pt x="14636" y="10174"/>
                  <a:pt x="14651" y="10193"/>
                  <a:pt x="14665" y="10220"/>
                </a:cubicBezTo>
                <a:cubicBezTo>
                  <a:pt x="14682" y="10237"/>
                  <a:pt x="14689" y="10241"/>
                  <a:pt x="14684" y="10259"/>
                </a:cubicBezTo>
                <a:cubicBezTo>
                  <a:pt x="14696" y="10279"/>
                  <a:pt x="14698" y="10278"/>
                  <a:pt x="14704" y="10319"/>
                </a:cubicBezTo>
                <a:cubicBezTo>
                  <a:pt x="14726" y="10324"/>
                  <a:pt x="14727" y="10327"/>
                  <a:pt x="14744" y="10339"/>
                </a:cubicBezTo>
                <a:cubicBezTo>
                  <a:pt x="14754" y="10357"/>
                  <a:pt x="14750" y="10377"/>
                  <a:pt x="14764" y="10398"/>
                </a:cubicBezTo>
                <a:cubicBezTo>
                  <a:pt x="14778" y="10419"/>
                  <a:pt x="14789" y="10462"/>
                  <a:pt x="14803" y="10478"/>
                </a:cubicBezTo>
                <a:cubicBezTo>
                  <a:pt x="14821" y="10495"/>
                  <a:pt x="14825" y="10502"/>
                  <a:pt x="14843" y="10497"/>
                </a:cubicBezTo>
                <a:cubicBezTo>
                  <a:pt x="14848" y="10519"/>
                  <a:pt x="14851" y="10520"/>
                  <a:pt x="14863" y="10537"/>
                </a:cubicBezTo>
                <a:cubicBezTo>
                  <a:pt x="14873" y="10549"/>
                  <a:pt x="14906" y="10570"/>
                  <a:pt x="14922" y="10597"/>
                </a:cubicBezTo>
                <a:cubicBezTo>
                  <a:pt x="14922" y="10603"/>
                  <a:pt x="14922" y="10610"/>
                  <a:pt x="14922" y="10616"/>
                </a:cubicBezTo>
                <a:cubicBezTo>
                  <a:pt x="14942" y="10616"/>
                  <a:pt x="14962" y="10616"/>
                  <a:pt x="14982" y="10616"/>
                </a:cubicBezTo>
                <a:cubicBezTo>
                  <a:pt x="14987" y="10638"/>
                  <a:pt x="14990" y="10639"/>
                  <a:pt x="15002" y="10656"/>
                </a:cubicBezTo>
                <a:cubicBezTo>
                  <a:pt x="15035" y="10656"/>
                  <a:pt x="15068" y="10656"/>
                  <a:pt x="15101" y="10656"/>
                </a:cubicBezTo>
                <a:cubicBezTo>
                  <a:pt x="15075" y="10700"/>
                  <a:pt x="15092" y="10641"/>
                  <a:pt x="15081" y="10716"/>
                </a:cubicBezTo>
                <a:cubicBezTo>
                  <a:pt x="15109" y="10734"/>
                  <a:pt x="15094" y="10715"/>
                  <a:pt x="15101" y="10755"/>
                </a:cubicBezTo>
                <a:cubicBezTo>
                  <a:pt x="15127" y="10770"/>
                  <a:pt x="15122" y="10769"/>
                  <a:pt x="15161" y="10775"/>
                </a:cubicBezTo>
                <a:cubicBezTo>
                  <a:pt x="15170" y="10812"/>
                  <a:pt x="15166" y="10796"/>
                  <a:pt x="15180" y="10815"/>
                </a:cubicBezTo>
                <a:cubicBezTo>
                  <a:pt x="15189" y="10844"/>
                  <a:pt x="15190" y="10867"/>
                  <a:pt x="15200" y="10894"/>
                </a:cubicBezTo>
                <a:cubicBezTo>
                  <a:pt x="15208" y="10918"/>
                  <a:pt x="15213" y="10928"/>
                  <a:pt x="15220" y="10954"/>
                </a:cubicBezTo>
                <a:cubicBezTo>
                  <a:pt x="15242" y="10958"/>
                  <a:pt x="15260" y="10965"/>
                  <a:pt x="15280" y="10974"/>
                </a:cubicBezTo>
                <a:cubicBezTo>
                  <a:pt x="15291" y="11002"/>
                  <a:pt x="15290" y="10995"/>
                  <a:pt x="15300" y="11033"/>
                </a:cubicBezTo>
                <a:cubicBezTo>
                  <a:pt x="15304" y="11049"/>
                  <a:pt x="15314" y="11073"/>
                  <a:pt x="15319" y="11093"/>
                </a:cubicBezTo>
                <a:cubicBezTo>
                  <a:pt x="15347" y="11111"/>
                  <a:pt x="15332" y="11092"/>
                  <a:pt x="15339" y="11132"/>
                </a:cubicBezTo>
                <a:cubicBezTo>
                  <a:pt x="15361" y="11137"/>
                  <a:pt x="15362" y="11140"/>
                  <a:pt x="15379" y="11152"/>
                </a:cubicBezTo>
                <a:cubicBezTo>
                  <a:pt x="15379" y="11192"/>
                  <a:pt x="15379" y="11231"/>
                  <a:pt x="15379" y="11271"/>
                </a:cubicBezTo>
                <a:cubicBezTo>
                  <a:pt x="15381" y="11304"/>
                  <a:pt x="15350" y="11319"/>
                  <a:pt x="15359" y="11351"/>
                </a:cubicBezTo>
                <a:cubicBezTo>
                  <a:pt x="15370" y="11391"/>
                  <a:pt x="15394" y="11435"/>
                  <a:pt x="15399" y="11470"/>
                </a:cubicBezTo>
                <a:cubicBezTo>
                  <a:pt x="15405" y="11514"/>
                  <a:pt x="15412" y="11576"/>
                  <a:pt x="15419" y="11628"/>
                </a:cubicBezTo>
                <a:cubicBezTo>
                  <a:pt x="15445" y="11646"/>
                  <a:pt x="15432" y="11629"/>
                  <a:pt x="15438" y="11668"/>
                </a:cubicBezTo>
                <a:cubicBezTo>
                  <a:pt x="15460" y="11673"/>
                  <a:pt x="15461" y="11676"/>
                  <a:pt x="15478" y="11688"/>
                </a:cubicBezTo>
                <a:cubicBezTo>
                  <a:pt x="15468" y="11760"/>
                  <a:pt x="15448" y="11829"/>
                  <a:pt x="15438" y="11886"/>
                </a:cubicBezTo>
                <a:cubicBezTo>
                  <a:pt x="15438" y="11893"/>
                  <a:pt x="15438" y="11899"/>
                  <a:pt x="15438" y="11906"/>
                </a:cubicBezTo>
                <a:cubicBezTo>
                  <a:pt x="15413" y="11921"/>
                  <a:pt x="15417" y="11920"/>
                  <a:pt x="15379" y="11926"/>
                </a:cubicBezTo>
                <a:cubicBezTo>
                  <a:pt x="15366" y="11979"/>
                  <a:pt x="15366" y="11941"/>
                  <a:pt x="15339" y="11986"/>
                </a:cubicBezTo>
                <a:cubicBezTo>
                  <a:pt x="15339" y="11992"/>
                  <a:pt x="15339" y="11999"/>
                  <a:pt x="15339" y="12005"/>
                </a:cubicBezTo>
                <a:cubicBezTo>
                  <a:pt x="15317" y="12009"/>
                  <a:pt x="15300" y="12016"/>
                  <a:pt x="15280" y="12025"/>
                </a:cubicBezTo>
                <a:cubicBezTo>
                  <a:pt x="15272" y="12047"/>
                  <a:pt x="15273" y="12059"/>
                  <a:pt x="15260" y="12085"/>
                </a:cubicBezTo>
                <a:cubicBezTo>
                  <a:pt x="15246" y="12113"/>
                  <a:pt x="15188" y="12163"/>
                  <a:pt x="15180" y="12204"/>
                </a:cubicBezTo>
                <a:cubicBezTo>
                  <a:pt x="15114" y="12545"/>
                  <a:pt x="15180" y="12966"/>
                  <a:pt x="15180" y="13315"/>
                </a:cubicBezTo>
                <a:cubicBezTo>
                  <a:pt x="15183" y="13323"/>
                  <a:pt x="15210" y="13370"/>
                  <a:pt x="15220" y="13395"/>
                </a:cubicBezTo>
                <a:cubicBezTo>
                  <a:pt x="15230" y="13421"/>
                  <a:pt x="15231" y="13449"/>
                  <a:pt x="15240" y="13474"/>
                </a:cubicBezTo>
                <a:cubicBezTo>
                  <a:pt x="15250" y="13503"/>
                  <a:pt x="15271" y="13522"/>
                  <a:pt x="15280" y="13553"/>
                </a:cubicBezTo>
                <a:cubicBezTo>
                  <a:pt x="15280" y="13573"/>
                  <a:pt x="15280" y="13580"/>
                  <a:pt x="15280" y="13593"/>
                </a:cubicBezTo>
                <a:cubicBezTo>
                  <a:pt x="15308" y="13611"/>
                  <a:pt x="15293" y="13593"/>
                  <a:pt x="15300" y="13633"/>
                </a:cubicBezTo>
                <a:cubicBezTo>
                  <a:pt x="15326" y="13651"/>
                  <a:pt x="15313" y="13633"/>
                  <a:pt x="15319" y="13672"/>
                </a:cubicBezTo>
                <a:cubicBezTo>
                  <a:pt x="15329" y="13692"/>
                  <a:pt x="15335" y="13709"/>
                  <a:pt x="15339" y="13752"/>
                </a:cubicBezTo>
                <a:cubicBezTo>
                  <a:pt x="15361" y="13757"/>
                  <a:pt x="15362" y="13760"/>
                  <a:pt x="15379" y="13772"/>
                </a:cubicBezTo>
                <a:cubicBezTo>
                  <a:pt x="15390" y="13786"/>
                  <a:pt x="15423" y="13804"/>
                  <a:pt x="15438" y="13831"/>
                </a:cubicBezTo>
                <a:cubicBezTo>
                  <a:pt x="15447" y="13847"/>
                  <a:pt x="15449" y="13875"/>
                  <a:pt x="15458" y="13891"/>
                </a:cubicBezTo>
                <a:cubicBezTo>
                  <a:pt x="15484" y="13906"/>
                  <a:pt x="15480" y="13905"/>
                  <a:pt x="15518" y="13910"/>
                </a:cubicBezTo>
                <a:cubicBezTo>
                  <a:pt x="15530" y="13942"/>
                  <a:pt x="15543" y="13958"/>
                  <a:pt x="15558" y="13990"/>
                </a:cubicBezTo>
                <a:cubicBezTo>
                  <a:pt x="15566" y="14007"/>
                  <a:pt x="15569" y="14032"/>
                  <a:pt x="15577" y="14049"/>
                </a:cubicBezTo>
                <a:cubicBezTo>
                  <a:pt x="15591" y="14061"/>
                  <a:pt x="15611" y="14091"/>
                  <a:pt x="15637" y="14109"/>
                </a:cubicBezTo>
                <a:cubicBezTo>
                  <a:pt x="15655" y="14127"/>
                  <a:pt x="15659" y="14134"/>
                  <a:pt x="15677" y="14129"/>
                </a:cubicBezTo>
                <a:cubicBezTo>
                  <a:pt x="15692" y="14163"/>
                  <a:pt x="15703" y="14192"/>
                  <a:pt x="15716" y="14228"/>
                </a:cubicBezTo>
                <a:cubicBezTo>
                  <a:pt x="15717" y="14233"/>
                  <a:pt x="15751" y="14261"/>
                  <a:pt x="15756" y="14288"/>
                </a:cubicBezTo>
                <a:cubicBezTo>
                  <a:pt x="15761" y="14319"/>
                  <a:pt x="15773" y="14332"/>
                  <a:pt x="15776" y="14367"/>
                </a:cubicBezTo>
                <a:cubicBezTo>
                  <a:pt x="15783" y="14446"/>
                  <a:pt x="15772" y="14526"/>
                  <a:pt x="15776" y="14605"/>
                </a:cubicBezTo>
                <a:cubicBezTo>
                  <a:pt x="15804" y="14623"/>
                  <a:pt x="15789" y="14605"/>
                  <a:pt x="15796" y="14645"/>
                </a:cubicBezTo>
                <a:cubicBezTo>
                  <a:pt x="15797" y="14648"/>
                  <a:pt x="15809" y="14700"/>
                  <a:pt x="15815" y="14724"/>
                </a:cubicBezTo>
                <a:cubicBezTo>
                  <a:pt x="15823" y="14756"/>
                  <a:pt x="15850" y="14796"/>
                  <a:pt x="15855" y="14823"/>
                </a:cubicBezTo>
                <a:cubicBezTo>
                  <a:pt x="15855" y="14843"/>
                  <a:pt x="15855" y="14850"/>
                  <a:pt x="15855" y="14863"/>
                </a:cubicBezTo>
                <a:cubicBezTo>
                  <a:pt x="15862" y="14895"/>
                  <a:pt x="15865" y="14911"/>
                  <a:pt x="15875" y="14942"/>
                </a:cubicBezTo>
                <a:cubicBezTo>
                  <a:pt x="15892" y="14993"/>
                  <a:pt x="15923" y="15056"/>
                  <a:pt x="15935" y="15101"/>
                </a:cubicBezTo>
                <a:cubicBezTo>
                  <a:pt x="15935" y="15114"/>
                  <a:pt x="15935" y="15128"/>
                  <a:pt x="15935" y="15141"/>
                </a:cubicBezTo>
                <a:cubicBezTo>
                  <a:pt x="15944" y="15160"/>
                  <a:pt x="15950" y="15178"/>
                  <a:pt x="15954" y="15220"/>
                </a:cubicBezTo>
                <a:cubicBezTo>
                  <a:pt x="15985" y="15235"/>
                  <a:pt x="15977" y="15234"/>
                  <a:pt x="15994" y="15260"/>
                </a:cubicBezTo>
                <a:cubicBezTo>
                  <a:pt x="16002" y="15271"/>
                  <a:pt x="16041" y="15324"/>
                  <a:pt x="16054" y="15339"/>
                </a:cubicBezTo>
                <a:cubicBezTo>
                  <a:pt x="16071" y="15359"/>
                  <a:pt x="16106" y="15389"/>
                  <a:pt x="16113" y="15399"/>
                </a:cubicBezTo>
                <a:cubicBezTo>
                  <a:pt x="16137" y="15483"/>
                  <a:pt x="16104" y="15521"/>
                  <a:pt x="16153" y="15597"/>
                </a:cubicBezTo>
                <a:cubicBezTo>
                  <a:pt x="16176" y="15632"/>
                  <a:pt x="16234" y="15655"/>
                  <a:pt x="16252" y="15677"/>
                </a:cubicBezTo>
                <a:cubicBezTo>
                  <a:pt x="16265" y="15693"/>
                  <a:pt x="16278" y="15712"/>
                  <a:pt x="16292" y="15736"/>
                </a:cubicBezTo>
                <a:cubicBezTo>
                  <a:pt x="16325" y="15740"/>
                  <a:pt x="16342" y="15745"/>
                  <a:pt x="16371" y="15756"/>
                </a:cubicBezTo>
                <a:cubicBezTo>
                  <a:pt x="16381" y="15795"/>
                  <a:pt x="16375" y="15775"/>
                  <a:pt x="16391" y="15796"/>
                </a:cubicBezTo>
                <a:cubicBezTo>
                  <a:pt x="16409" y="15822"/>
                  <a:pt x="16392" y="15809"/>
                  <a:pt x="16431" y="15815"/>
                </a:cubicBezTo>
                <a:cubicBezTo>
                  <a:pt x="16436" y="15837"/>
                  <a:pt x="16438" y="15838"/>
                  <a:pt x="16450" y="15855"/>
                </a:cubicBezTo>
                <a:cubicBezTo>
                  <a:pt x="16478" y="15873"/>
                  <a:pt x="16463" y="15855"/>
                  <a:pt x="16470" y="15895"/>
                </a:cubicBezTo>
                <a:cubicBezTo>
                  <a:pt x="16520" y="15912"/>
                  <a:pt x="16493" y="15885"/>
                  <a:pt x="16510" y="15935"/>
                </a:cubicBezTo>
                <a:cubicBezTo>
                  <a:pt x="16522" y="15955"/>
                  <a:pt x="16524" y="15953"/>
                  <a:pt x="16530" y="15994"/>
                </a:cubicBezTo>
                <a:cubicBezTo>
                  <a:pt x="16552" y="15931"/>
                  <a:pt x="16568" y="15902"/>
                  <a:pt x="16589" y="15835"/>
                </a:cubicBezTo>
                <a:cubicBezTo>
                  <a:pt x="16608" y="15797"/>
                  <a:pt x="16615" y="15785"/>
                  <a:pt x="16609" y="15756"/>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700520" y="4343400"/>
            <a:ext cx="936720" cy="1150920"/>
          </a:xfrm>
          <a:custGeom>
            <a:avLst/>
            <a:gdLst/>
            <a:ahLst/>
            <a:rect l="l" t="t" r="r" b="b"/>
            <a:pathLst>
              <a:path w="2601" h="3196">
                <a:moveTo>
                  <a:pt x="13137" y="12402"/>
                </a:moveTo>
                <a:cubicBezTo>
                  <a:pt x="13106" y="12415"/>
                  <a:pt x="13025" y="12414"/>
                  <a:pt x="13057" y="12422"/>
                </a:cubicBezTo>
                <a:cubicBezTo>
                  <a:pt x="13120" y="12437"/>
                  <a:pt x="13199" y="12418"/>
                  <a:pt x="13256" y="12402"/>
                </a:cubicBezTo>
                <a:cubicBezTo>
                  <a:pt x="13348" y="12376"/>
                  <a:pt x="13416" y="12350"/>
                  <a:pt x="13514" y="12343"/>
                </a:cubicBezTo>
                <a:cubicBezTo>
                  <a:pt x="13771" y="12324"/>
                  <a:pt x="14089" y="12399"/>
                  <a:pt x="14327" y="12323"/>
                </a:cubicBezTo>
                <a:cubicBezTo>
                  <a:pt x="14350" y="12316"/>
                  <a:pt x="14356" y="12288"/>
                  <a:pt x="14387" y="12283"/>
                </a:cubicBezTo>
                <a:cubicBezTo>
                  <a:pt x="14458" y="12272"/>
                  <a:pt x="14535" y="12268"/>
                  <a:pt x="14605" y="12263"/>
                </a:cubicBezTo>
                <a:cubicBezTo>
                  <a:pt x="14662" y="12259"/>
                  <a:pt x="14737" y="12247"/>
                  <a:pt x="14784" y="12244"/>
                </a:cubicBezTo>
                <a:cubicBezTo>
                  <a:pt x="15007" y="12229"/>
                  <a:pt x="15235" y="12244"/>
                  <a:pt x="15458" y="12244"/>
                </a:cubicBezTo>
                <a:cubicBezTo>
                  <a:pt x="15427" y="12235"/>
                  <a:pt x="15410" y="12212"/>
                  <a:pt x="15359" y="12204"/>
                </a:cubicBezTo>
                <a:cubicBezTo>
                  <a:pt x="14801" y="12115"/>
                  <a:pt x="14161" y="12273"/>
                  <a:pt x="13633" y="12184"/>
                </a:cubicBezTo>
                <a:cubicBezTo>
                  <a:pt x="13704" y="12162"/>
                  <a:pt x="13742" y="12148"/>
                  <a:pt x="13831" y="12144"/>
                </a:cubicBezTo>
                <a:cubicBezTo>
                  <a:pt x="14078" y="12134"/>
                  <a:pt x="14320" y="12121"/>
                  <a:pt x="14565" y="12105"/>
                </a:cubicBezTo>
                <a:cubicBezTo>
                  <a:pt x="14806" y="12089"/>
                  <a:pt x="15038" y="12065"/>
                  <a:pt x="15280" y="12065"/>
                </a:cubicBezTo>
                <a:cubicBezTo>
                  <a:pt x="15346" y="12065"/>
                  <a:pt x="15412" y="12065"/>
                  <a:pt x="15478" y="12065"/>
                </a:cubicBezTo>
                <a:cubicBezTo>
                  <a:pt x="15394" y="12092"/>
                  <a:pt x="15299" y="12097"/>
                  <a:pt x="15220" y="12144"/>
                </a:cubicBezTo>
                <a:cubicBezTo>
                  <a:pt x="15040" y="12251"/>
                  <a:pt x="14876" y="12362"/>
                  <a:pt x="14704" y="12482"/>
                </a:cubicBezTo>
                <a:cubicBezTo>
                  <a:pt x="14458" y="12653"/>
                  <a:pt x="14200" y="12812"/>
                  <a:pt x="13950" y="12978"/>
                </a:cubicBezTo>
                <a:cubicBezTo>
                  <a:pt x="13797" y="13080"/>
                  <a:pt x="13645" y="13177"/>
                  <a:pt x="13514" y="13295"/>
                </a:cubicBezTo>
                <a:cubicBezTo>
                  <a:pt x="13582" y="13280"/>
                  <a:pt x="13643" y="13282"/>
                  <a:pt x="13712" y="13256"/>
                </a:cubicBezTo>
                <a:cubicBezTo>
                  <a:pt x="13922" y="13179"/>
                  <a:pt x="14114" y="13141"/>
                  <a:pt x="14327" y="13077"/>
                </a:cubicBezTo>
                <a:cubicBezTo>
                  <a:pt x="14605" y="12994"/>
                  <a:pt x="14869" y="12856"/>
                  <a:pt x="15141" y="12760"/>
                </a:cubicBezTo>
                <a:cubicBezTo>
                  <a:pt x="15220" y="12732"/>
                  <a:pt x="15225" y="12738"/>
                  <a:pt x="15300" y="12700"/>
                </a:cubicBezTo>
                <a:cubicBezTo>
                  <a:pt x="15114" y="12708"/>
                  <a:pt x="14974" y="12791"/>
                  <a:pt x="14803" y="12819"/>
                </a:cubicBezTo>
                <a:cubicBezTo>
                  <a:pt x="14522" y="12865"/>
                  <a:pt x="14234" y="12929"/>
                  <a:pt x="13950" y="12998"/>
                </a:cubicBezTo>
                <a:cubicBezTo>
                  <a:pt x="13663" y="13067"/>
                  <a:pt x="13381" y="13099"/>
                  <a:pt x="13097" y="13176"/>
                </a:cubicBezTo>
                <a:cubicBezTo>
                  <a:pt x="13090" y="13176"/>
                  <a:pt x="13084" y="13176"/>
                  <a:pt x="13077" y="13176"/>
                </a:cubicBezTo>
                <a:cubicBezTo>
                  <a:pt x="13121" y="13165"/>
                  <a:pt x="13198" y="13177"/>
                  <a:pt x="13236" y="13156"/>
                </a:cubicBezTo>
                <a:cubicBezTo>
                  <a:pt x="13289" y="13127"/>
                  <a:pt x="13347" y="13066"/>
                  <a:pt x="13414" y="13037"/>
                </a:cubicBezTo>
                <a:cubicBezTo>
                  <a:pt x="13511" y="12995"/>
                  <a:pt x="13629" y="12971"/>
                  <a:pt x="13732" y="12958"/>
                </a:cubicBezTo>
                <a:cubicBezTo>
                  <a:pt x="13969" y="12929"/>
                  <a:pt x="14293" y="12923"/>
                  <a:pt x="14526" y="12978"/>
                </a:cubicBezTo>
                <a:cubicBezTo>
                  <a:pt x="14595" y="12994"/>
                  <a:pt x="14706" y="13033"/>
                  <a:pt x="14764" y="13077"/>
                </a:cubicBezTo>
                <a:cubicBezTo>
                  <a:pt x="14782" y="13095"/>
                  <a:pt x="14789" y="13099"/>
                  <a:pt x="14784" y="13117"/>
                </a:cubicBezTo>
                <a:cubicBezTo>
                  <a:pt x="14749" y="13154"/>
                  <a:pt x="14744" y="13176"/>
                  <a:pt x="14684" y="13216"/>
                </a:cubicBezTo>
                <a:cubicBezTo>
                  <a:pt x="14515" y="13329"/>
                  <a:pt x="14305" y="13445"/>
                  <a:pt x="14188" y="13613"/>
                </a:cubicBezTo>
                <a:cubicBezTo>
                  <a:pt x="14122" y="13708"/>
                  <a:pt x="14150" y="13676"/>
                  <a:pt x="14129" y="13772"/>
                </a:cubicBezTo>
                <a:cubicBezTo>
                  <a:pt x="14129" y="13778"/>
                  <a:pt x="14129" y="13785"/>
                  <a:pt x="14129" y="13791"/>
                </a:cubicBezTo>
                <a:cubicBezTo>
                  <a:pt x="14294" y="13774"/>
                  <a:pt x="14408" y="13753"/>
                  <a:pt x="14565" y="13672"/>
                </a:cubicBezTo>
                <a:cubicBezTo>
                  <a:pt x="14654" y="13626"/>
                  <a:pt x="14762" y="13588"/>
                  <a:pt x="14843" y="13533"/>
                </a:cubicBezTo>
                <a:cubicBezTo>
                  <a:pt x="14936" y="13470"/>
                  <a:pt x="14827" y="13525"/>
                  <a:pt x="14823" y="13533"/>
                </a:cubicBezTo>
                <a:cubicBezTo>
                  <a:pt x="14800" y="13581"/>
                  <a:pt x="14795" y="13654"/>
                  <a:pt x="14764" y="13692"/>
                </a:cubicBezTo>
                <a:cubicBezTo>
                  <a:pt x="14725" y="13741"/>
                  <a:pt x="14663" y="13774"/>
                  <a:pt x="14605" y="13791"/>
                </a:cubicBezTo>
                <a:cubicBezTo>
                  <a:pt x="14585" y="13791"/>
                  <a:pt x="14565" y="13791"/>
                  <a:pt x="14545" y="13791"/>
                </a:cubicBezTo>
                <a:cubicBezTo>
                  <a:pt x="14506" y="13791"/>
                  <a:pt x="14492" y="13791"/>
                  <a:pt x="14466" y="13791"/>
                </a:cubicBezTo>
                <a:cubicBezTo>
                  <a:pt x="14519" y="13769"/>
                  <a:pt x="14591" y="13759"/>
                  <a:pt x="14645" y="13732"/>
                </a:cubicBezTo>
                <a:cubicBezTo>
                  <a:pt x="14769" y="13670"/>
                  <a:pt x="14894" y="13588"/>
                  <a:pt x="15022" y="13533"/>
                </a:cubicBezTo>
                <a:cubicBezTo>
                  <a:pt x="15132" y="13486"/>
                  <a:pt x="15257" y="13439"/>
                  <a:pt x="15359" y="13375"/>
                </a:cubicBezTo>
                <a:cubicBezTo>
                  <a:pt x="15372" y="13362"/>
                  <a:pt x="15386" y="13348"/>
                  <a:pt x="15399" y="13335"/>
                </a:cubicBezTo>
                <a:cubicBezTo>
                  <a:pt x="15366" y="13335"/>
                  <a:pt x="15427" y="13298"/>
                  <a:pt x="15399" y="13315"/>
                </a:cubicBezTo>
                <a:cubicBezTo>
                  <a:pt x="15333" y="13354"/>
                  <a:pt x="15213" y="13452"/>
                  <a:pt x="15161" y="13514"/>
                </a:cubicBezTo>
                <a:cubicBezTo>
                  <a:pt x="15045" y="13653"/>
                  <a:pt x="14907" y="13771"/>
                  <a:pt x="14784" y="13910"/>
                </a:cubicBezTo>
                <a:cubicBezTo>
                  <a:pt x="14701" y="14004"/>
                  <a:pt x="14602" y="14114"/>
                  <a:pt x="14486" y="14168"/>
                </a:cubicBezTo>
                <a:cubicBezTo>
                  <a:pt x="14412" y="14203"/>
                  <a:pt x="14340" y="14188"/>
                  <a:pt x="14268" y="14208"/>
                </a:cubicBezTo>
                <a:cubicBezTo>
                  <a:pt x="14275" y="14208"/>
                  <a:pt x="14281" y="14208"/>
                  <a:pt x="14288" y="14208"/>
                </a:cubicBezTo>
                <a:cubicBezTo>
                  <a:pt x="14501" y="14208"/>
                  <a:pt x="14737" y="14226"/>
                  <a:pt x="14942" y="14168"/>
                </a:cubicBezTo>
                <a:cubicBezTo>
                  <a:pt x="15016" y="14147"/>
                  <a:pt x="15092" y="14130"/>
                  <a:pt x="15161" y="14109"/>
                </a:cubicBezTo>
                <a:cubicBezTo>
                  <a:pt x="15154" y="14109"/>
                  <a:pt x="15148" y="14109"/>
                  <a:pt x="15141" y="14109"/>
                </a:cubicBezTo>
                <a:cubicBezTo>
                  <a:pt x="15102" y="14141"/>
                  <a:pt x="15045" y="14190"/>
                  <a:pt x="15002" y="14228"/>
                </a:cubicBezTo>
                <a:cubicBezTo>
                  <a:pt x="14903" y="14315"/>
                  <a:pt x="14834" y="14438"/>
                  <a:pt x="14724" y="14506"/>
                </a:cubicBezTo>
                <a:cubicBezTo>
                  <a:pt x="14645" y="14555"/>
                  <a:pt x="14593" y="14578"/>
                  <a:pt x="14526" y="14625"/>
                </a:cubicBezTo>
                <a:cubicBezTo>
                  <a:pt x="14674" y="14614"/>
                  <a:pt x="14780" y="14595"/>
                  <a:pt x="14922" y="14526"/>
                </a:cubicBezTo>
                <a:cubicBezTo>
                  <a:pt x="15103" y="14438"/>
                  <a:pt x="15276" y="14348"/>
                  <a:pt x="15458" y="14268"/>
                </a:cubicBezTo>
                <a:cubicBezTo>
                  <a:pt x="15515" y="14243"/>
                  <a:pt x="15581" y="14211"/>
                  <a:pt x="15637" y="14188"/>
                </a:cubicBezTo>
                <a:cubicBezTo>
                  <a:pt x="15614" y="14207"/>
                  <a:pt x="15582" y="14185"/>
                  <a:pt x="15558" y="14228"/>
                </a:cubicBezTo>
                <a:cubicBezTo>
                  <a:pt x="15511" y="14314"/>
                  <a:pt x="15534" y="14433"/>
                  <a:pt x="15498" y="14526"/>
                </a:cubicBezTo>
                <a:cubicBezTo>
                  <a:pt x="15474" y="14589"/>
                  <a:pt x="15423" y="14655"/>
                  <a:pt x="15399" y="14744"/>
                </a:cubicBezTo>
                <a:cubicBezTo>
                  <a:pt x="15399" y="14764"/>
                  <a:pt x="15399" y="14771"/>
                  <a:pt x="15399" y="14784"/>
                </a:cubicBezTo>
                <a:cubicBezTo>
                  <a:pt x="15465" y="14784"/>
                  <a:pt x="15629" y="14759"/>
                  <a:pt x="15657" y="14803"/>
                </a:cubicBezTo>
                <a:cubicBezTo>
                  <a:pt x="15682" y="14842"/>
                  <a:pt x="15652" y="14974"/>
                  <a:pt x="15637" y="15002"/>
                </a:cubicBezTo>
                <a:cubicBezTo>
                  <a:pt x="15605" y="15060"/>
                  <a:pt x="15549" y="15122"/>
                  <a:pt x="15518" y="15180"/>
                </a:cubicBezTo>
                <a:cubicBezTo>
                  <a:pt x="15426" y="15350"/>
                  <a:pt x="15508" y="15204"/>
                  <a:pt x="15518" y="15220"/>
                </a:cubicBezTo>
                <a:cubicBezTo>
                  <a:pt x="15525" y="15213"/>
                  <a:pt x="15531" y="15207"/>
                  <a:pt x="15538" y="15200"/>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335400" y="3271680"/>
            <a:ext cx="2244600" cy="914400"/>
          </a:xfrm>
          <a:custGeom>
            <a:avLst/>
            <a:gdLst/>
            <a:ahLst/>
            <a:rect l="l" t="t" r="r" b="b"/>
            <a:pathLst>
              <a:path w="6232" h="2541">
                <a:moveTo>
                  <a:pt x="12640" y="10934"/>
                </a:moveTo>
                <a:cubicBezTo>
                  <a:pt x="12587" y="10943"/>
                  <a:pt x="12514" y="10941"/>
                  <a:pt x="12462" y="10954"/>
                </a:cubicBezTo>
                <a:cubicBezTo>
                  <a:pt x="12297" y="10994"/>
                  <a:pt x="12138" y="11089"/>
                  <a:pt x="11966" y="11112"/>
                </a:cubicBezTo>
                <a:cubicBezTo>
                  <a:pt x="11723" y="11145"/>
                  <a:pt x="11458" y="11132"/>
                  <a:pt x="11212" y="11132"/>
                </a:cubicBezTo>
                <a:cubicBezTo>
                  <a:pt x="11080" y="11132"/>
                  <a:pt x="10947" y="11132"/>
                  <a:pt x="10815" y="11132"/>
                </a:cubicBezTo>
                <a:cubicBezTo>
                  <a:pt x="10856" y="11120"/>
                  <a:pt x="10885" y="11103"/>
                  <a:pt x="10934" y="11093"/>
                </a:cubicBezTo>
                <a:cubicBezTo>
                  <a:pt x="11033" y="11073"/>
                  <a:pt x="11129" y="11046"/>
                  <a:pt x="11232" y="11033"/>
                </a:cubicBezTo>
                <a:cubicBezTo>
                  <a:pt x="11357" y="11017"/>
                  <a:pt x="11507" y="11023"/>
                  <a:pt x="11628" y="10993"/>
                </a:cubicBezTo>
                <a:cubicBezTo>
                  <a:pt x="11705" y="10974"/>
                  <a:pt x="11790" y="10935"/>
                  <a:pt x="11867" y="10914"/>
                </a:cubicBezTo>
                <a:cubicBezTo>
                  <a:pt x="11904" y="10904"/>
                  <a:pt x="11965" y="10888"/>
                  <a:pt x="12005" y="10874"/>
                </a:cubicBezTo>
                <a:cubicBezTo>
                  <a:pt x="12058" y="10855"/>
                  <a:pt x="12113" y="10833"/>
                  <a:pt x="12164" y="10815"/>
                </a:cubicBezTo>
                <a:cubicBezTo>
                  <a:pt x="12095" y="10809"/>
                  <a:pt x="12074" y="10796"/>
                  <a:pt x="12005" y="10795"/>
                </a:cubicBezTo>
                <a:cubicBezTo>
                  <a:pt x="11766" y="10792"/>
                  <a:pt x="11545" y="10816"/>
                  <a:pt x="11311" y="10835"/>
                </a:cubicBezTo>
                <a:cubicBezTo>
                  <a:pt x="11135" y="10850"/>
                  <a:pt x="10952" y="10835"/>
                  <a:pt x="10775" y="10835"/>
                </a:cubicBezTo>
                <a:cubicBezTo>
                  <a:pt x="10801" y="10826"/>
                  <a:pt x="10928" y="10790"/>
                  <a:pt x="10974" y="10775"/>
                </a:cubicBezTo>
                <a:cubicBezTo>
                  <a:pt x="11173" y="10712"/>
                  <a:pt x="11365" y="10650"/>
                  <a:pt x="11569" y="10597"/>
                </a:cubicBezTo>
                <a:cubicBezTo>
                  <a:pt x="11751" y="10550"/>
                  <a:pt x="11923" y="10528"/>
                  <a:pt x="12105" y="10497"/>
                </a:cubicBezTo>
                <a:cubicBezTo>
                  <a:pt x="12187" y="10483"/>
                  <a:pt x="12260" y="10468"/>
                  <a:pt x="12343" y="10458"/>
                </a:cubicBezTo>
                <a:cubicBezTo>
                  <a:pt x="12350" y="10458"/>
                  <a:pt x="12356" y="10458"/>
                  <a:pt x="12363" y="10458"/>
                </a:cubicBezTo>
                <a:cubicBezTo>
                  <a:pt x="12314" y="10453"/>
                  <a:pt x="12312" y="10440"/>
                  <a:pt x="12263" y="10438"/>
                </a:cubicBezTo>
                <a:cubicBezTo>
                  <a:pt x="11345" y="10401"/>
                  <a:pt x="10423" y="10458"/>
                  <a:pt x="9505" y="10458"/>
                </a:cubicBezTo>
                <a:cubicBezTo>
                  <a:pt x="9426" y="10458"/>
                  <a:pt x="9346" y="10458"/>
                  <a:pt x="9267" y="10458"/>
                </a:cubicBezTo>
                <a:cubicBezTo>
                  <a:pt x="9314" y="10452"/>
                  <a:pt x="9341" y="10444"/>
                  <a:pt x="9386" y="10438"/>
                </a:cubicBezTo>
                <a:cubicBezTo>
                  <a:pt x="9486" y="10425"/>
                  <a:pt x="9581" y="10421"/>
                  <a:pt x="9684" y="10418"/>
                </a:cubicBezTo>
                <a:cubicBezTo>
                  <a:pt x="9973" y="10411"/>
                  <a:pt x="10252" y="10343"/>
                  <a:pt x="10537" y="10319"/>
                </a:cubicBezTo>
                <a:cubicBezTo>
                  <a:pt x="11060" y="10275"/>
                  <a:pt x="11602" y="10310"/>
                  <a:pt x="12125" y="10279"/>
                </a:cubicBezTo>
                <a:cubicBezTo>
                  <a:pt x="12173" y="10276"/>
                  <a:pt x="12284" y="10261"/>
                  <a:pt x="12303" y="10259"/>
                </a:cubicBezTo>
                <a:cubicBezTo>
                  <a:pt x="12299" y="10257"/>
                  <a:pt x="12240" y="10204"/>
                  <a:pt x="12224" y="10200"/>
                </a:cubicBezTo>
                <a:cubicBezTo>
                  <a:pt x="12116" y="10176"/>
                  <a:pt x="12006" y="10151"/>
                  <a:pt x="11886" y="10140"/>
                </a:cubicBezTo>
                <a:cubicBezTo>
                  <a:pt x="11656" y="10119"/>
                  <a:pt x="11419" y="10143"/>
                  <a:pt x="11192" y="10120"/>
                </a:cubicBezTo>
                <a:cubicBezTo>
                  <a:pt x="11113" y="10112"/>
                  <a:pt x="11034" y="10093"/>
                  <a:pt x="10954" y="10081"/>
                </a:cubicBezTo>
                <a:cubicBezTo>
                  <a:pt x="10884" y="10070"/>
                  <a:pt x="10796" y="10050"/>
                  <a:pt x="10735" y="10041"/>
                </a:cubicBezTo>
                <a:cubicBezTo>
                  <a:pt x="10729" y="10041"/>
                  <a:pt x="10722" y="10041"/>
                  <a:pt x="10716" y="10041"/>
                </a:cubicBezTo>
                <a:cubicBezTo>
                  <a:pt x="10765" y="10028"/>
                  <a:pt x="10817" y="9990"/>
                  <a:pt x="10874" y="9981"/>
                </a:cubicBezTo>
                <a:cubicBezTo>
                  <a:pt x="11042" y="9954"/>
                  <a:pt x="11224" y="9958"/>
                  <a:pt x="11390" y="9922"/>
                </a:cubicBezTo>
                <a:cubicBezTo>
                  <a:pt x="11608" y="9874"/>
                  <a:pt x="11809" y="9776"/>
                  <a:pt x="12025" y="9743"/>
                </a:cubicBezTo>
                <a:cubicBezTo>
                  <a:pt x="12151" y="9724"/>
                  <a:pt x="12247" y="9718"/>
                  <a:pt x="12363" y="9664"/>
                </a:cubicBezTo>
                <a:cubicBezTo>
                  <a:pt x="12384" y="9654"/>
                  <a:pt x="12388" y="9631"/>
                  <a:pt x="12402" y="9624"/>
                </a:cubicBezTo>
                <a:cubicBezTo>
                  <a:pt x="12390" y="9619"/>
                  <a:pt x="12357" y="9576"/>
                  <a:pt x="12323" y="9565"/>
                </a:cubicBezTo>
                <a:cubicBezTo>
                  <a:pt x="12201" y="9524"/>
                  <a:pt x="12073" y="9513"/>
                  <a:pt x="11946" y="9505"/>
                </a:cubicBezTo>
                <a:cubicBezTo>
                  <a:pt x="11428" y="9472"/>
                  <a:pt x="10898" y="9505"/>
                  <a:pt x="10378" y="9505"/>
                </a:cubicBezTo>
                <a:cubicBezTo>
                  <a:pt x="10438" y="9493"/>
                  <a:pt x="10495" y="9475"/>
                  <a:pt x="10557" y="9465"/>
                </a:cubicBezTo>
                <a:cubicBezTo>
                  <a:pt x="10699" y="9443"/>
                  <a:pt x="10833" y="9419"/>
                  <a:pt x="10974" y="9386"/>
                </a:cubicBezTo>
                <a:cubicBezTo>
                  <a:pt x="11095" y="9357"/>
                  <a:pt x="11258" y="9341"/>
                  <a:pt x="11370" y="9287"/>
                </a:cubicBezTo>
                <a:cubicBezTo>
                  <a:pt x="11403" y="9254"/>
                  <a:pt x="11410" y="9247"/>
                  <a:pt x="11430" y="9227"/>
                </a:cubicBezTo>
                <a:cubicBezTo>
                  <a:pt x="11404" y="9214"/>
                  <a:pt x="11459" y="9173"/>
                  <a:pt x="11430" y="9168"/>
                </a:cubicBezTo>
                <a:cubicBezTo>
                  <a:pt x="11280" y="9140"/>
                  <a:pt x="11107" y="9145"/>
                  <a:pt x="10954" y="9128"/>
                </a:cubicBezTo>
                <a:cubicBezTo>
                  <a:pt x="10813" y="9113"/>
                  <a:pt x="10679" y="9108"/>
                  <a:pt x="10537" y="9108"/>
                </a:cubicBezTo>
                <a:cubicBezTo>
                  <a:pt x="11577" y="9108"/>
                  <a:pt x="12646" y="9134"/>
                  <a:pt x="13672" y="9088"/>
                </a:cubicBezTo>
                <a:cubicBezTo>
                  <a:pt x="13825" y="9081"/>
                  <a:pt x="14029" y="9082"/>
                  <a:pt x="14149" y="9108"/>
                </a:cubicBezTo>
                <a:cubicBezTo>
                  <a:pt x="14189" y="9117"/>
                  <a:pt x="14247" y="9135"/>
                  <a:pt x="14288" y="9148"/>
                </a:cubicBezTo>
                <a:cubicBezTo>
                  <a:pt x="14294" y="9150"/>
                  <a:pt x="14340" y="9162"/>
                  <a:pt x="14347" y="9168"/>
                </a:cubicBezTo>
                <a:cubicBezTo>
                  <a:pt x="14379" y="9199"/>
                  <a:pt x="14365" y="9156"/>
                  <a:pt x="14387" y="9208"/>
                </a:cubicBezTo>
                <a:cubicBezTo>
                  <a:pt x="14415" y="9273"/>
                  <a:pt x="14387" y="9413"/>
                  <a:pt x="14387" y="9485"/>
                </a:cubicBezTo>
                <a:cubicBezTo>
                  <a:pt x="14355" y="9487"/>
                  <a:pt x="14343" y="9504"/>
                  <a:pt x="14307" y="9505"/>
                </a:cubicBezTo>
                <a:cubicBezTo>
                  <a:pt x="13917" y="9513"/>
                  <a:pt x="13523" y="9486"/>
                  <a:pt x="13137" y="9525"/>
                </a:cubicBezTo>
                <a:cubicBezTo>
                  <a:pt x="13030" y="9536"/>
                  <a:pt x="12924" y="9546"/>
                  <a:pt x="12819" y="9565"/>
                </a:cubicBezTo>
                <a:cubicBezTo>
                  <a:pt x="12554" y="9612"/>
                  <a:pt x="12295" y="9604"/>
                  <a:pt x="12025" y="9604"/>
                </a:cubicBezTo>
                <a:cubicBezTo>
                  <a:pt x="11966" y="9604"/>
                  <a:pt x="11906" y="9604"/>
                  <a:pt x="11847" y="9604"/>
                </a:cubicBezTo>
                <a:cubicBezTo>
                  <a:pt x="11887" y="9604"/>
                  <a:pt x="11767" y="9604"/>
                  <a:pt x="11807" y="9604"/>
                </a:cubicBezTo>
                <a:cubicBezTo>
                  <a:pt x="11925" y="9604"/>
                  <a:pt x="12003" y="9615"/>
                  <a:pt x="12105" y="9644"/>
                </a:cubicBezTo>
                <a:cubicBezTo>
                  <a:pt x="12195" y="9670"/>
                  <a:pt x="12262" y="9730"/>
                  <a:pt x="12343" y="9763"/>
                </a:cubicBezTo>
                <a:cubicBezTo>
                  <a:pt x="12505" y="9828"/>
                  <a:pt x="12705" y="9872"/>
                  <a:pt x="12879" y="9882"/>
                </a:cubicBezTo>
                <a:cubicBezTo>
                  <a:pt x="13031" y="9891"/>
                  <a:pt x="13183" y="9897"/>
                  <a:pt x="13335" y="9902"/>
                </a:cubicBezTo>
                <a:cubicBezTo>
                  <a:pt x="13791" y="9916"/>
                  <a:pt x="14254" y="9887"/>
                  <a:pt x="14704" y="9922"/>
                </a:cubicBezTo>
                <a:cubicBezTo>
                  <a:pt x="14724" y="9922"/>
                  <a:pt x="14731" y="9922"/>
                  <a:pt x="14744" y="9922"/>
                </a:cubicBezTo>
                <a:cubicBezTo>
                  <a:pt x="14577" y="9922"/>
                  <a:pt x="14428" y="9938"/>
                  <a:pt x="14268" y="9962"/>
                </a:cubicBezTo>
                <a:cubicBezTo>
                  <a:pt x="14160" y="9979"/>
                  <a:pt x="14082" y="10007"/>
                  <a:pt x="13970" y="10041"/>
                </a:cubicBezTo>
                <a:cubicBezTo>
                  <a:pt x="13744" y="10110"/>
                  <a:pt x="13527" y="10186"/>
                  <a:pt x="13295" y="10239"/>
                </a:cubicBezTo>
                <a:cubicBezTo>
                  <a:pt x="13027" y="10300"/>
                  <a:pt x="12749" y="10368"/>
                  <a:pt x="12482" y="10418"/>
                </a:cubicBezTo>
                <a:cubicBezTo>
                  <a:pt x="12410" y="10432"/>
                  <a:pt x="12290" y="10447"/>
                  <a:pt x="12244" y="10458"/>
                </a:cubicBezTo>
                <a:cubicBezTo>
                  <a:pt x="12250" y="10458"/>
                  <a:pt x="12257" y="10458"/>
                  <a:pt x="12263" y="10458"/>
                </a:cubicBezTo>
                <a:cubicBezTo>
                  <a:pt x="13011" y="10458"/>
                  <a:pt x="13762" y="10456"/>
                  <a:pt x="14506" y="10478"/>
                </a:cubicBezTo>
                <a:cubicBezTo>
                  <a:pt x="14466" y="10478"/>
                  <a:pt x="14585" y="10478"/>
                  <a:pt x="14545" y="10478"/>
                </a:cubicBezTo>
                <a:cubicBezTo>
                  <a:pt x="14478" y="10478"/>
                  <a:pt x="14402" y="10464"/>
                  <a:pt x="14347" y="10497"/>
                </a:cubicBezTo>
                <a:cubicBezTo>
                  <a:pt x="14282" y="10536"/>
                  <a:pt x="14262" y="10596"/>
                  <a:pt x="14188" y="10636"/>
                </a:cubicBezTo>
                <a:cubicBezTo>
                  <a:pt x="14020" y="10728"/>
                  <a:pt x="13858" y="10756"/>
                  <a:pt x="13672" y="10795"/>
                </a:cubicBezTo>
                <a:cubicBezTo>
                  <a:pt x="13438" y="10844"/>
                  <a:pt x="13236" y="10871"/>
                  <a:pt x="13018" y="10974"/>
                </a:cubicBezTo>
                <a:cubicBezTo>
                  <a:pt x="12906" y="11027"/>
                  <a:pt x="12797" y="11089"/>
                  <a:pt x="12680" y="11132"/>
                </a:cubicBezTo>
                <a:cubicBezTo>
                  <a:pt x="12632" y="11149"/>
                  <a:pt x="12593" y="11156"/>
                  <a:pt x="12541" y="11172"/>
                </a:cubicBezTo>
                <a:cubicBezTo>
                  <a:pt x="12498" y="11185"/>
                  <a:pt x="12441" y="11197"/>
                  <a:pt x="12402" y="11212"/>
                </a:cubicBezTo>
                <a:cubicBezTo>
                  <a:pt x="12357" y="11229"/>
                  <a:pt x="12371" y="11238"/>
                  <a:pt x="12323" y="11251"/>
                </a:cubicBezTo>
                <a:cubicBezTo>
                  <a:pt x="12329" y="11252"/>
                  <a:pt x="12283" y="11270"/>
                  <a:pt x="12343" y="11271"/>
                </a:cubicBezTo>
                <a:cubicBezTo>
                  <a:pt x="13150" y="11289"/>
                  <a:pt x="14364" y="11481"/>
                  <a:pt x="15101" y="11251"/>
                </a:cubicBezTo>
                <a:cubicBezTo>
                  <a:pt x="15101" y="11245"/>
                  <a:pt x="15101" y="11238"/>
                  <a:pt x="15101" y="11232"/>
                </a:cubicBezTo>
                <a:cubicBezTo>
                  <a:pt x="15074" y="11205"/>
                  <a:pt x="15064" y="11162"/>
                  <a:pt x="15022" y="11132"/>
                </a:cubicBezTo>
                <a:cubicBezTo>
                  <a:pt x="14976" y="11099"/>
                  <a:pt x="14952" y="11089"/>
                  <a:pt x="14903" y="11073"/>
                </a:cubicBezTo>
                <a:cubicBezTo>
                  <a:pt x="14831" y="11049"/>
                  <a:pt x="14741" y="11052"/>
                  <a:pt x="14665" y="11033"/>
                </a:cubicBezTo>
                <a:cubicBezTo>
                  <a:pt x="14629" y="11024"/>
                  <a:pt x="14529" y="10996"/>
                  <a:pt x="14486" y="10993"/>
                </a:cubicBezTo>
                <a:cubicBezTo>
                  <a:pt x="14457" y="10991"/>
                  <a:pt x="14415" y="10972"/>
                  <a:pt x="14407" y="10974"/>
                </a:cubicBezTo>
                <a:cubicBezTo>
                  <a:pt x="14387" y="10980"/>
                  <a:pt x="14447" y="11028"/>
                  <a:pt x="14426" y="11033"/>
                </a:cubicBezTo>
                <a:cubicBezTo>
                  <a:pt x="14475" y="11059"/>
                  <a:pt x="14501" y="11095"/>
                  <a:pt x="14545" y="11112"/>
                </a:cubicBezTo>
                <a:cubicBezTo>
                  <a:pt x="14614" y="11139"/>
                  <a:pt x="14726" y="11203"/>
                  <a:pt x="14784" y="11212"/>
                </a:cubicBezTo>
                <a:cubicBezTo>
                  <a:pt x="14905" y="11231"/>
                  <a:pt x="15094" y="11201"/>
                  <a:pt x="15180" y="11192"/>
                </a:cubicBezTo>
                <a:cubicBezTo>
                  <a:pt x="15147" y="11134"/>
                  <a:pt x="15180" y="11120"/>
                  <a:pt x="15121" y="11053"/>
                </a:cubicBezTo>
                <a:cubicBezTo>
                  <a:pt x="15073" y="10998"/>
                  <a:pt x="15008" y="10960"/>
                  <a:pt x="14942" y="10934"/>
                </a:cubicBezTo>
                <a:cubicBezTo>
                  <a:pt x="14898" y="10917"/>
                  <a:pt x="14882" y="10920"/>
                  <a:pt x="14823" y="10914"/>
                </a:cubicBezTo>
                <a:cubicBezTo>
                  <a:pt x="14616" y="10892"/>
                  <a:pt x="14396" y="10914"/>
                  <a:pt x="14188" y="10914"/>
                </a:cubicBezTo>
                <a:cubicBezTo>
                  <a:pt x="14210" y="11003"/>
                  <a:pt x="14193" y="11065"/>
                  <a:pt x="14248" y="11152"/>
                </a:cubicBezTo>
                <a:cubicBezTo>
                  <a:pt x="14281" y="11204"/>
                  <a:pt x="14365" y="11310"/>
                  <a:pt x="14407" y="11351"/>
                </a:cubicBezTo>
                <a:cubicBezTo>
                  <a:pt x="14474" y="11416"/>
                  <a:pt x="14561" y="11487"/>
                  <a:pt x="14645" y="11529"/>
                </a:cubicBezTo>
                <a:cubicBezTo>
                  <a:pt x="14708" y="11560"/>
                  <a:pt x="14850" y="11597"/>
                  <a:pt x="14922" y="11609"/>
                </a:cubicBezTo>
                <a:cubicBezTo>
                  <a:pt x="14990" y="11621"/>
                  <a:pt x="15003" y="11623"/>
                  <a:pt x="15061" y="11609"/>
                </a:cubicBezTo>
                <a:cubicBezTo>
                  <a:pt x="15069" y="11607"/>
                  <a:pt x="15052" y="11558"/>
                  <a:pt x="15081" y="11549"/>
                </a:cubicBezTo>
                <a:cubicBezTo>
                  <a:pt x="15124" y="11536"/>
                  <a:pt x="15176" y="11540"/>
                  <a:pt x="15200" y="11529"/>
                </a:cubicBezTo>
                <a:cubicBezTo>
                  <a:pt x="15224" y="11518"/>
                  <a:pt x="15174" y="11491"/>
                  <a:pt x="15200" y="11490"/>
                </a:cubicBezTo>
                <a:cubicBezTo>
                  <a:pt x="15314" y="11487"/>
                  <a:pt x="15359" y="11569"/>
                  <a:pt x="15458" y="11609"/>
                </a:cubicBezTo>
                <a:cubicBezTo>
                  <a:pt x="15490" y="11624"/>
                  <a:pt x="15504" y="11639"/>
                  <a:pt x="15498" y="11609"/>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278160" y="3908520"/>
            <a:ext cx="2130480" cy="1906560"/>
          </a:xfrm>
          <a:custGeom>
            <a:avLst/>
            <a:gdLst/>
            <a:ahLst/>
            <a:rect l="l" t="t" r="r" b="b"/>
            <a:pathLst>
              <a:path w="5915" h="5299">
                <a:moveTo>
                  <a:pt x="15022" y="11847"/>
                </a:moveTo>
                <a:cubicBezTo>
                  <a:pt x="14859" y="11842"/>
                  <a:pt x="14705" y="11833"/>
                  <a:pt x="14545" y="11827"/>
                </a:cubicBezTo>
                <a:cubicBezTo>
                  <a:pt x="14435" y="11823"/>
                  <a:pt x="14331" y="11844"/>
                  <a:pt x="14228" y="11847"/>
                </a:cubicBezTo>
                <a:cubicBezTo>
                  <a:pt x="13680" y="11865"/>
                  <a:pt x="12930" y="11953"/>
                  <a:pt x="12402" y="11827"/>
                </a:cubicBezTo>
                <a:cubicBezTo>
                  <a:pt x="12354" y="11815"/>
                  <a:pt x="12313" y="11797"/>
                  <a:pt x="12263" y="11787"/>
                </a:cubicBezTo>
                <a:cubicBezTo>
                  <a:pt x="12237" y="11782"/>
                  <a:pt x="12226" y="11774"/>
                  <a:pt x="12184" y="11767"/>
                </a:cubicBezTo>
                <a:cubicBezTo>
                  <a:pt x="12120" y="11757"/>
                  <a:pt x="12049" y="11752"/>
                  <a:pt x="11986" y="11748"/>
                </a:cubicBezTo>
                <a:cubicBezTo>
                  <a:pt x="11531" y="11722"/>
                  <a:pt x="11068" y="11733"/>
                  <a:pt x="10616" y="11728"/>
                </a:cubicBezTo>
                <a:cubicBezTo>
                  <a:pt x="10311" y="11725"/>
                  <a:pt x="9953" y="11738"/>
                  <a:pt x="9684" y="11748"/>
                </a:cubicBezTo>
                <a:cubicBezTo>
                  <a:pt x="9518" y="11754"/>
                  <a:pt x="9365" y="11740"/>
                  <a:pt x="9208" y="11728"/>
                </a:cubicBezTo>
                <a:cubicBezTo>
                  <a:pt x="9201" y="11728"/>
                  <a:pt x="9195" y="11728"/>
                  <a:pt x="9188" y="11728"/>
                </a:cubicBezTo>
                <a:cubicBezTo>
                  <a:pt x="9194" y="11721"/>
                  <a:pt x="9074" y="11755"/>
                  <a:pt x="9128" y="11728"/>
                </a:cubicBezTo>
                <a:cubicBezTo>
                  <a:pt x="9224" y="11679"/>
                  <a:pt x="9231" y="11730"/>
                  <a:pt x="9247" y="11648"/>
                </a:cubicBezTo>
                <a:cubicBezTo>
                  <a:pt x="9288" y="11432"/>
                  <a:pt x="9237" y="11183"/>
                  <a:pt x="9227" y="10974"/>
                </a:cubicBezTo>
                <a:cubicBezTo>
                  <a:pt x="9225" y="10934"/>
                  <a:pt x="9228" y="10895"/>
                  <a:pt x="9227" y="10855"/>
                </a:cubicBezTo>
                <a:cubicBezTo>
                  <a:pt x="9272" y="10859"/>
                  <a:pt x="9330" y="10873"/>
                  <a:pt x="9386" y="10874"/>
                </a:cubicBezTo>
                <a:cubicBezTo>
                  <a:pt x="9535" y="10876"/>
                  <a:pt x="9674" y="10892"/>
                  <a:pt x="9823" y="10894"/>
                </a:cubicBezTo>
                <a:cubicBezTo>
                  <a:pt x="9966" y="10896"/>
                  <a:pt x="10099" y="10879"/>
                  <a:pt x="10239" y="10874"/>
                </a:cubicBezTo>
                <a:cubicBezTo>
                  <a:pt x="10467" y="10866"/>
                  <a:pt x="10781" y="10847"/>
                  <a:pt x="10974" y="10894"/>
                </a:cubicBezTo>
                <a:cubicBezTo>
                  <a:pt x="10974" y="10901"/>
                  <a:pt x="10974" y="10907"/>
                  <a:pt x="10974" y="10914"/>
                </a:cubicBezTo>
                <a:cubicBezTo>
                  <a:pt x="10959" y="10946"/>
                  <a:pt x="10948" y="10958"/>
                  <a:pt x="10934" y="10993"/>
                </a:cubicBezTo>
                <a:cubicBezTo>
                  <a:pt x="10927" y="11010"/>
                  <a:pt x="10924" y="11060"/>
                  <a:pt x="10914" y="11073"/>
                </a:cubicBezTo>
                <a:cubicBezTo>
                  <a:pt x="10901" y="11091"/>
                  <a:pt x="10886" y="11123"/>
                  <a:pt x="10874" y="11132"/>
                </a:cubicBezTo>
                <a:cubicBezTo>
                  <a:pt x="10845" y="11154"/>
                  <a:pt x="10886" y="11154"/>
                  <a:pt x="10835" y="11172"/>
                </a:cubicBezTo>
                <a:cubicBezTo>
                  <a:pt x="10416" y="11321"/>
                  <a:pt x="9768" y="11172"/>
                  <a:pt x="9307" y="11172"/>
                </a:cubicBezTo>
                <a:cubicBezTo>
                  <a:pt x="9309" y="11204"/>
                  <a:pt x="9326" y="11188"/>
                  <a:pt x="9327" y="11232"/>
                </a:cubicBezTo>
                <a:cubicBezTo>
                  <a:pt x="9329" y="11340"/>
                  <a:pt x="9331" y="11434"/>
                  <a:pt x="9287" y="11490"/>
                </a:cubicBezTo>
                <a:cubicBezTo>
                  <a:pt x="9278" y="11501"/>
                  <a:pt x="9252" y="11520"/>
                  <a:pt x="9247" y="11529"/>
                </a:cubicBezTo>
                <a:cubicBezTo>
                  <a:pt x="9233" y="11551"/>
                  <a:pt x="9198" y="11525"/>
                  <a:pt x="9188" y="11549"/>
                </a:cubicBezTo>
                <a:cubicBezTo>
                  <a:pt x="9182" y="11563"/>
                  <a:pt x="9176" y="11594"/>
                  <a:pt x="9168" y="11628"/>
                </a:cubicBezTo>
                <a:cubicBezTo>
                  <a:pt x="9092" y="11942"/>
                  <a:pt x="9164" y="12410"/>
                  <a:pt x="9188" y="12700"/>
                </a:cubicBezTo>
                <a:cubicBezTo>
                  <a:pt x="9199" y="12654"/>
                  <a:pt x="9195" y="12669"/>
                  <a:pt x="9208" y="12621"/>
                </a:cubicBezTo>
                <a:cubicBezTo>
                  <a:pt x="9217" y="12586"/>
                  <a:pt x="9223" y="12563"/>
                  <a:pt x="9227" y="12541"/>
                </a:cubicBezTo>
                <a:cubicBezTo>
                  <a:pt x="9236" y="12483"/>
                  <a:pt x="9242" y="12442"/>
                  <a:pt x="9247" y="12382"/>
                </a:cubicBezTo>
                <a:cubicBezTo>
                  <a:pt x="9250" y="12343"/>
                  <a:pt x="9245" y="12302"/>
                  <a:pt x="9247" y="12263"/>
                </a:cubicBezTo>
                <a:cubicBezTo>
                  <a:pt x="10486" y="12263"/>
                  <a:pt x="11721" y="12244"/>
                  <a:pt x="12958" y="12244"/>
                </a:cubicBezTo>
                <a:cubicBezTo>
                  <a:pt x="13209" y="12244"/>
                  <a:pt x="13461" y="12244"/>
                  <a:pt x="13712" y="12244"/>
                </a:cubicBezTo>
                <a:cubicBezTo>
                  <a:pt x="13692" y="12257"/>
                  <a:pt x="13687" y="12272"/>
                  <a:pt x="13672" y="12283"/>
                </a:cubicBezTo>
                <a:cubicBezTo>
                  <a:pt x="13651" y="12298"/>
                  <a:pt x="13631" y="12288"/>
                  <a:pt x="13613" y="12303"/>
                </a:cubicBezTo>
                <a:cubicBezTo>
                  <a:pt x="13594" y="12319"/>
                  <a:pt x="13578" y="12316"/>
                  <a:pt x="13553" y="12343"/>
                </a:cubicBezTo>
                <a:cubicBezTo>
                  <a:pt x="13549" y="12348"/>
                  <a:pt x="13495" y="12419"/>
                  <a:pt x="13494" y="12422"/>
                </a:cubicBezTo>
                <a:cubicBezTo>
                  <a:pt x="13483" y="12451"/>
                  <a:pt x="13484" y="12444"/>
                  <a:pt x="13474" y="12482"/>
                </a:cubicBezTo>
                <a:cubicBezTo>
                  <a:pt x="13460" y="12537"/>
                  <a:pt x="13481" y="12603"/>
                  <a:pt x="13474" y="12660"/>
                </a:cubicBezTo>
                <a:cubicBezTo>
                  <a:pt x="13382" y="12667"/>
                  <a:pt x="13304" y="12677"/>
                  <a:pt x="13216" y="12680"/>
                </a:cubicBezTo>
                <a:cubicBezTo>
                  <a:pt x="12680" y="12701"/>
                  <a:pt x="12132" y="12657"/>
                  <a:pt x="11609" y="12720"/>
                </a:cubicBezTo>
                <a:cubicBezTo>
                  <a:pt x="11553" y="12727"/>
                  <a:pt x="11507" y="12735"/>
                  <a:pt x="11450" y="12740"/>
                </a:cubicBezTo>
                <a:cubicBezTo>
                  <a:pt x="11306" y="12752"/>
                  <a:pt x="11153" y="12755"/>
                  <a:pt x="11013" y="12760"/>
                </a:cubicBezTo>
                <a:cubicBezTo>
                  <a:pt x="10749" y="12769"/>
                  <a:pt x="9381" y="12590"/>
                  <a:pt x="9247" y="12779"/>
                </a:cubicBezTo>
                <a:cubicBezTo>
                  <a:pt x="9202" y="12843"/>
                  <a:pt x="9263" y="13076"/>
                  <a:pt x="9267" y="13117"/>
                </a:cubicBezTo>
                <a:cubicBezTo>
                  <a:pt x="9285" y="13106"/>
                  <a:pt x="9263" y="13071"/>
                  <a:pt x="9307" y="13057"/>
                </a:cubicBezTo>
                <a:cubicBezTo>
                  <a:pt x="9345" y="13045"/>
                  <a:pt x="9371" y="13056"/>
                  <a:pt x="9406" y="13037"/>
                </a:cubicBezTo>
                <a:cubicBezTo>
                  <a:pt x="9436" y="13021"/>
                  <a:pt x="9474" y="12993"/>
                  <a:pt x="9505" y="12978"/>
                </a:cubicBezTo>
                <a:cubicBezTo>
                  <a:pt x="9560" y="12951"/>
                  <a:pt x="9605" y="12912"/>
                  <a:pt x="9664" y="12898"/>
                </a:cubicBezTo>
                <a:cubicBezTo>
                  <a:pt x="9734" y="12881"/>
                  <a:pt x="9789" y="12885"/>
                  <a:pt x="9862" y="12879"/>
                </a:cubicBezTo>
                <a:cubicBezTo>
                  <a:pt x="10067" y="12863"/>
                  <a:pt x="10259" y="12904"/>
                  <a:pt x="10458" y="12918"/>
                </a:cubicBezTo>
                <a:cubicBezTo>
                  <a:pt x="11566" y="12993"/>
                  <a:pt x="13045" y="13109"/>
                  <a:pt x="14149" y="12898"/>
                </a:cubicBezTo>
                <a:cubicBezTo>
                  <a:pt x="14155" y="12892"/>
                  <a:pt x="14162" y="12885"/>
                  <a:pt x="14168" y="12879"/>
                </a:cubicBezTo>
                <a:cubicBezTo>
                  <a:pt x="14140" y="12827"/>
                  <a:pt x="14171" y="12813"/>
                  <a:pt x="14129" y="12760"/>
                </a:cubicBezTo>
                <a:cubicBezTo>
                  <a:pt x="14091" y="12712"/>
                  <a:pt x="14038" y="12649"/>
                  <a:pt x="13990" y="12601"/>
                </a:cubicBezTo>
                <a:cubicBezTo>
                  <a:pt x="13935" y="12546"/>
                  <a:pt x="13858" y="12491"/>
                  <a:pt x="13791" y="12442"/>
                </a:cubicBezTo>
                <a:cubicBezTo>
                  <a:pt x="13687" y="12366"/>
                  <a:pt x="13573" y="12307"/>
                  <a:pt x="13474" y="12224"/>
                </a:cubicBezTo>
                <a:cubicBezTo>
                  <a:pt x="13283" y="12064"/>
                  <a:pt x="13124" y="11909"/>
                  <a:pt x="12898" y="11787"/>
                </a:cubicBezTo>
                <a:cubicBezTo>
                  <a:pt x="12697" y="11678"/>
                  <a:pt x="12487" y="11595"/>
                  <a:pt x="12283" y="11490"/>
                </a:cubicBezTo>
                <a:cubicBezTo>
                  <a:pt x="12099" y="11395"/>
                  <a:pt x="11902" y="11287"/>
                  <a:pt x="11708" y="11212"/>
                </a:cubicBezTo>
                <a:cubicBezTo>
                  <a:pt x="11652" y="11190"/>
                  <a:pt x="11604" y="11193"/>
                  <a:pt x="11549" y="11172"/>
                </a:cubicBezTo>
                <a:cubicBezTo>
                  <a:pt x="11613" y="11225"/>
                  <a:pt x="11682" y="11273"/>
                  <a:pt x="11748" y="11331"/>
                </a:cubicBezTo>
                <a:cubicBezTo>
                  <a:pt x="11862" y="11430"/>
                  <a:pt x="11963" y="11528"/>
                  <a:pt x="12065" y="11628"/>
                </a:cubicBezTo>
                <a:cubicBezTo>
                  <a:pt x="12325" y="11884"/>
                  <a:pt x="12595" y="12130"/>
                  <a:pt x="12859" y="12382"/>
                </a:cubicBezTo>
                <a:cubicBezTo>
                  <a:pt x="13051" y="12565"/>
                  <a:pt x="13240" y="12740"/>
                  <a:pt x="13454" y="12898"/>
                </a:cubicBezTo>
                <a:cubicBezTo>
                  <a:pt x="13591" y="12999"/>
                  <a:pt x="13752" y="13095"/>
                  <a:pt x="13871" y="13216"/>
                </a:cubicBezTo>
                <a:cubicBezTo>
                  <a:pt x="13926" y="13272"/>
                  <a:pt x="13940" y="13290"/>
                  <a:pt x="13970" y="13335"/>
                </a:cubicBezTo>
                <a:cubicBezTo>
                  <a:pt x="13982" y="13353"/>
                  <a:pt x="13998" y="13366"/>
                  <a:pt x="14010" y="13395"/>
                </a:cubicBezTo>
                <a:cubicBezTo>
                  <a:pt x="14034" y="13454"/>
                  <a:pt x="14050" y="13548"/>
                  <a:pt x="14069" y="13613"/>
                </a:cubicBezTo>
                <a:cubicBezTo>
                  <a:pt x="14130" y="13823"/>
                  <a:pt x="14098" y="14051"/>
                  <a:pt x="14129" y="14268"/>
                </a:cubicBezTo>
                <a:cubicBezTo>
                  <a:pt x="14139" y="14342"/>
                  <a:pt x="14157" y="14410"/>
                  <a:pt x="14168" y="14486"/>
                </a:cubicBezTo>
                <a:cubicBezTo>
                  <a:pt x="14194" y="14662"/>
                  <a:pt x="14207" y="14874"/>
                  <a:pt x="14168" y="15042"/>
                </a:cubicBezTo>
                <a:cubicBezTo>
                  <a:pt x="14154" y="15101"/>
                  <a:pt x="14124" y="15144"/>
                  <a:pt x="14109" y="15200"/>
                </a:cubicBezTo>
                <a:cubicBezTo>
                  <a:pt x="14109" y="15207"/>
                  <a:pt x="14109" y="15213"/>
                  <a:pt x="14109" y="15220"/>
                </a:cubicBezTo>
                <a:cubicBezTo>
                  <a:pt x="14107" y="15147"/>
                  <a:pt x="14114" y="15154"/>
                  <a:pt x="14109" y="15081"/>
                </a:cubicBezTo>
                <a:cubicBezTo>
                  <a:pt x="14098" y="14934"/>
                  <a:pt x="14090" y="14793"/>
                  <a:pt x="14089" y="14645"/>
                </a:cubicBezTo>
                <a:cubicBezTo>
                  <a:pt x="14086" y="14308"/>
                  <a:pt x="14089" y="13970"/>
                  <a:pt x="14089" y="13633"/>
                </a:cubicBezTo>
                <a:cubicBezTo>
                  <a:pt x="14089" y="13686"/>
                  <a:pt x="14089" y="13659"/>
                  <a:pt x="14089" y="13712"/>
                </a:cubicBezTo>
                <a:cubicBezTo>
                  <a:pt x="14089" y="13961"/>
                  <a:pt x="14058" y="14200"/>
                  <a:pt x="14049" y="14446"/>
                </a:cubicBezTo>
                <a:cubicBezTo>
                  <a:pt x="14043" y="14612"/>
                  <a:pt x="14035" y="14777"/>
                  <a:pt x="14030" y="14942"/>
                </a:cubicBezTo>
                <a:cubicBezTo>
                  <a:pt x="14027" y="15044"/>
                  <a:pt x="14017" y="15141"/>
                  <a:pt x="14010" y="15240"/>
                </a:cubicBezTo>
                <a:cubicBezTo>
                  <a:pt x="14010" y="15247"/>
                  <a:pt x="14010" y="15253"/>
                  <a:pt x="14010" y="15260"/>
                </a:cubicBezTo>
                <a:cubicBezTo>
                  <a:pt x="14010" y="14712"/>
                  <a:pt x="14024" y="14105"/>
                  <a:pt x="13990" y="13593"/>
                </a:cubicBezTo>
                <a:cubicBezTo>
                  <a:pt x="13984" y="13845"/>
                  <a:pt x="13968" y="14100"/>
                  <a:pt x="13930" y="14347"/>
                </a:cubicBezTo>
                <a:cubicBezTo>
                  <a:pt x="13896" y="14568"/>
                  <a:pt x="13872" y="14780"/>
                  <a:pt x="13851" y="15002"/>
                </a:cubicBezTo>
                <a:cubicBezTo>
                  <a:pt x="13842" y="15103"/>
                  <a:pt x="13822" y="15202"/>
                  <a:pt x="13811" y="15300"/>
                </a:cubicBezTo>
                <a:cubicBezTo>
                  <a:pt x="13811" y="15306"/>
                  <a:pt x="13811" y="15313"/>
                  <a:pt x="13811" y="15319"/>
                </a:cubicBezTo>
                <a:cubicBezTo>
                  <a:pt x="13811" y="14933"/>
                  <a:pt x="13823" y="14551"/>
                  <a:pt x="13831" y="14168"/>
                </a:cubicBezTo>
                <a:cubicBezTo>
                  <a:pt x="13802" y="14269"/>
                  <a:pt x="13752" y="14375"/>
                  <a:pt x="13732" y="14486"/>
                </a:cubicBezTo>
                <a:cubicBezTo>
                  <a:pt x="13688" y="14728"/>
                  <a:pt x="13677" y="14978"/>
                  <a:pt x="13633" y="15220"/>
                </a:cubicBezTo>
                <a:cubicBezTo>
                  <a:pt x="13606" y="15368"/>
                  <a:pt x="13563" y="15512"/>
                  <a:pt x="13533" y="15657"/>
                </a:cubicBezTo>
                <a:cubicBezTo>
                  <a:pt x="13533" y="15664"/>
                  <a:pt x="13533" y="15670"/>
                  <a:pt x="13533" y="15677"/>
                </a:cubicBezTo>
                <a:cubicBezTo>
                  <a:pt x="13533" y="15288"/>
                  <a:pt x="13515" y="14907"/>
                  <a:pt x="13593" y="14526"/>
                </a:cubicBezTo>
                <a:cubicBezTo>
                  <a:pt x="13619" y="14399"/>
                  <a:pt x="13662" y="14273"/>
                  <a:pt x="13692" y="14149"/>
                </a:cubicBezTo>
                <a:cubicBezTo>
                  <a:pt x="13678" y="14206"/>
                  <a:pt x="13685" y="14171"/>
                  <a:pt x="13672" y="14228"/>
                </a:cubicBezTo>
                <a:cubicBezTo>
                  <a:pt x="13609" y="14496"/>
                  <a:pt x="13514" y="14740"/>
                  <a:pt x="13434" y="15002"/>
                </a:cubicBezTo>
                <a:cubicBezTo>
                  <a:pt x="13350" y="15277"/>
                  <a:pt x="13245" y="15558"/>
                  <a:pt x="13176" y="15835"/>
                </a:cubicBezTo>
                <a:cubicBezTo>
                  <a:pt x="13155" y="15918"/>
                  <a:pt x="13168" y="16026"/>
                  <a:pt x="13156" y="16113"/>
                </a:cubicBezTo>
                <a:cubicBezTo>
                  <a:pt x="13156" y="16133"/>
                  <a:pt x="13156" y="16140"/>
                  <a:pt x="13156" y="16153"/>
                </a:cubicBezTo>
                <a:cubicBezTo>
                  <a:pt x="13156" y="15906"/>
                  <a:pt x="13139" y="15665"/>
                  <a:pt x="13137" y="15419"/>
                </a:cubicBezTo>
                <a:cubicBezTo>
                  <a:pt x="13134" y="14949"/>
                  <a:pt x="13137" y="14480"/>
                  <a:pt x="13137" y="14010"/>
                </a:cubicBezTo>
                <a:cubicBezTo>
                  <a:pt x="13110" y="14047"/>
                  <a:pt x="13037" y="14124"/>
                  <a:pt x="12998" y="14188"/>
                </a:cubicBezTo>
                <a:cubicBezTo>
                  <a:pt x="12877" y="14389"/>
                  <a:pt x="12740" y="14557"/>
                  <a:pt x="12601" y="14744"/>
                </a:cubicBezTo>
                <a:cubicBezTo>
                  <a:pt x="12405" y="15008"/>
                  <a:pt x="12169" y="15161"/>
                  <a:pt x="11926" y="15379"/>
                </a:cubicBezTo>
                <a:cubicBezTo>
                  <a:pt x="11800" y="15492"/>
                  <a:pt x="11682" y="15593"/>
                  <a:pt x="11549" y="15696"/>
                </a:cubicBezTo>
                <a:cubicBezTo>
                  <a:pt x="11661" y="15681"/>
                  <a:pt x="11774" y="15677"/>
                  <a:pt x="11886" y="15657"/>
                </a:cubicBezTo>
                <a:cubicBezTo>
                  <a:pt x="12161" y="15608"/>
                  <a:pt x="12399" y="15577"/>
                  <a:pt x="12680" y="15577"/>
                </a:cubicBezTo>
                <a:cubicBezTo>
                  <a:pt x="12993" y="15577"/>
                  <a:pt x="13325" y="15611"/>
                  <a:pt x="13633" y="15558"/>
                </a:cubicBezTo>
                <a:cubicBezTo>
                  <a:pt x="13674" y="15551"/>
                  <a:pt x="13691" y="15525"/>
                  <a:pt x="13732" y="15518"/>
                </a:cubicBezTo>
                <a:cubicBezTo>
                  <a:pt x="13690" y="15497"/>
                  <a:pt x="13728" y="15449"/>
                  <a:pt x="13672" y="15438"/>
                </a:cubicBezTo>
                <a:cubicBezTo>
                  <a:pt x="13523" y="15407"/>
                  <a:pt x="13392" y="15402"/>
                  <a:pt x="13236" y="15399"/>
                </a:cubicBezTo>
                <a:cubicBezTo>
                  <a:pt x="12890" y="15392"/>
                  <a:pt x="12569" y="15338"/>
                  <a:pt x="12224" y="15300"/>
                </a:cubicBezTo>
                <a:cubicBezTo>
                  <a:pt x="11783" y="15251"/>
                  <a:pt x="11338" y="15226"/>
                  <a:pt x="10894" y="15220"/>
                </a:cubicBezTo>
                <a:cubicBezTo>
                  <a:pt x="10854" y="15220"/>
                  <a:pt x="10815" y="15220"/>
                  <a:pt x="10775" y="15220"/>
                </a:cubicBezTo>
                <a:cubicBezTo>
                  <a:pt x="10874" y="15220"/>
                  <a:pt x="10934" y="15220"/>
                  <a:pt x="11033" y="15220"/>
                </a:cubicBezTo>
                <a:cubicBezTo>
                  <a:pt x="12020" y="15220"/>
                  <a:pt x="13687" y="15586"/>
                  <a:pt x="14585" y="15200"/>
                </a:cubicBezTo>
                <a:cubicBezTo>
                  <a:pt x="14614" y="15187"/>
                  <a:pt x="14514" y="15169"/>
                  <a:pt x="14545" y="15161"/>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757600" y="4757760"/>
            <a:ext cx="3265200" cy="1314360"/>
          </a:xfrm>
          <a:custGeom>
            <a:avLst/>
            <a:gdLst/>
            <a:ahLst/>
            <a:rect l="l" t="t" r="r" b="b"/>
            <a:pathLst>
              <a:path w="9069" h="3652">
                <a:moveTo>
                  <a:pt x="14545" y="15161"/>
                </a:moveTo>
                <a:cubicBezTo>
                  <a:pt x="14082" y="15152"/>
                  <a:pt x="13621" y="15141"/>
                  <a:pt x="13156" y="15141"/>
                </a:cubicBezTo>
                <a:cubicBezTo>
                  <a:pt x="12666" y="15141"/>
                  <a:pt x="11613" y="15141"/>
                  <a:pt x="11331" y="15141"/>
                </a:cubicBezTo>
                <a:cubicBezTo>
                  <a:pt x="11351" y="15141"/>
                  <a:pt x="11370" y="15141"/>
                  <a:pt x="11390" y="15141"/>
                </a:cubicBezTo>
                <a:cubicBezTo>
                  <a:pt x="11589" y="15146"/>
                  <a:pt x="11787" y="15156"/>
                  <a:pt x="11986" y="15161"/>
                </a:cubicBezTo>
                <a:cubicBezTo>
                  <a:pt x="13209" y="15190"/>
                  <a:pt x="14544" y="15292"/>
                  <a:pt x="15756" y="15121"/>
                </a:cubicBezTo>
                <a:cubicBezTo>
                  <a:pt x="15802" y="15101"/>
                  <a:pt x="15849" y="15081"/>
                  <a:pt x="15895" y="15061"/>
                </a:cubicBezTo>
                <a:cubicBezTo>
                  <a:pt x="15824" y="15044"/>
                  <a:pt x="15888" y="15030"/>
                  <a:pt x="15815" y="15022"/>
                </a:cubicBezTo>
                <a:cubicBezTo>
                  <a:pt x="15624" y="15000"/>
                  <a:pt x="15435" y="15002"/>
                  <a:pt x="15240" y="15002"/>
                </a:cubicBezTo>
                <a:cubicBezTo>
                  <a:pt x="13904" y="15002"/>
                  <a:pt x="12568" y="15022"/>
                  <a:pt x="11232" y="15022"/>
                </a:cubicBezTo>
                <a:cubicBezTo>
                  <a:pt x="10913" y="15022"/>
                  <a:pt x="10457" y="15020"/>
                  <a:pt x="10160" y="15002"/>
                </a:cubicBezTo>
                <a:cubicBezTo>
                  <a:pt x="10817" y="15002"/>
                  <a:pt x="14225" y="15302"/>
                  <a:pt x="14367" y="14982"/>
                </a:cubicBezTo>
                <a:cubicBezTo>
                  <a:pt x="14403" y="14900"/>
                  <a:pt x="14197" y="14934"/>
                  <a:pt x="14109" y="14922"/>
                </a:cubicBezTo>
                <a:cubicBezTo>
                  <a:pt x="13822" y="14882"/>
                  <a:pt x="13525" y="14903"/>
                  <a:pt x="13236" y="14903"/>
                </a:cubicBezTo>
                <a:cubicBezTo>
                  <a:pt x="12237" y="14903"/>
                  <a:pt x="11238" y="14903"/>
                  <a:pt x="10239" y="14903"/>
                </a:cubicBezTo>
                <a:cubicBezTo>
                  <a:pt x="10127" y="14903"/>
                  <a:pt x="10014" y="14903"/>
                  <a:pt x="9902" y="14903"/>
                </a:cubicBezTo>
                <a:cubicBezTo>
                  <a:pt x="10095" y="14920"/>
                  <a:pt x="10297" y="14941"/>
                  <a:pt x="10497" y="14942"/>
                </a:cubicBezTo>
                <a:cubicBezTo>
                  <a:pt x="11959" y="14953"/>
                  <a:pt x="13421" y="14942"/>
                  <a:pt x="14883" y="14942"/>
                </a:cubicBezTo>
                <a:cubicBezTo>
                  <a:pt x="14855" y="14937"/>
                  <a:pt x="14686" y="14870"/>
                  <a:pt x="14605" y="14863"/>
                </a:cubicBezTo>
                <a:cubicBezTo>
                  <a:pt x="14144" y="14824"/>
                  <a:pt x="13679" y="14843"/>
                  <a:pt x="13216" y="14843"/>
                </a:cubicBezTo>
                <a:cubicBezTo>
                  <a:pt x="11370" y="14843"/>
                  <a:pt x="9490" y="14897"/>
                  <a:pt x="7660" y="14823"/>
                </a:cubicBezTo>
                <a:cubicBezTo>
                  <a:pt x="7742" y="14843"/>
                  <a:pt x="7826" y="14892"/>
                  <a:pt x="7918" y="14903"/>
                </a:cubicBezTo>
                <a:cubicBezTo>
                  <a:pt x="9222" y="15054"/>
                  <a:pt x="10613" y="14900"/>
                  <a:pt x="11926" y="14922"/>
                </a:cubicBezTo>
                <a:cubicBezTo>
                  <a:pt x="12045" y="14922"/>
                  <a:pt x="12244" y="14922"/>
                  <a:pt x="12125" y="14922"/>
                </a:cubicBezTo>
                <a:cubicBezTo>
                  <a:pt x="10676" y="14922"/>
                  <a:pt x="9228" y="14922"/>
                  <a:pt x="7779" y="14922"/>
                </a:cubicBezTo>
                <a:cubicBezTo>
                  <a:pt x="7845" y="14918"/>
                  <a:pt x="7752" y="14927"/>
                  <a:pt x="7818" y="14922"/>
                </a:cubicBezTo>
                <a:cubicBezTo>
                  <a:pt x="7946" y="14913"/>
                  <a:pt x="8064" y="14904"/>
                  <a:pt x="8195" y="14903"/>
                </a:cubicBezTo>
                <a:cubicBezTo>
                  <a:pt x="8489" y="14900"/>
                  <a:pt x="8778" y="14891"/>
                  <a:pt x="9069" y="14863"/>
                </a:cubicBezTo>
                <a:cubicBezTo>
                  <a:pt x="9278" y="14843"/>
                  <a:pt x="9477" y="14779"/>
                  <a:pt x="9684" y="14744"/>
                </a:cubicBezTo>
                <a:cubicBezTo>
                  <a:pt x="9751" y="14732"/>
                  <a:pt x="9940" y="14738"/>
                  <a:pt x="9962" y="14665"/>
                </a:cubicBezTo>
                <a:cubicBezTo>
                  <a:pt x="9978" y="14613"/>
                  <a:pt x="10022" y="14639"/>
                  <a:pt x="9962" y="14605"/>
                </a:cubicBezTo>
                <a:cubicBezTo>
                  <a:pt x="9666" y="14435"/>
                  <a:pt x="9057" y="14741"/>
                  <a:pt x="8751" y="14565"/>
                </a:cubicBezTo>
                <a:cubicBezTo>
                  <a:pt x="8661" y="14513"/>
                  <a:pt x="8605" y="14508"/>
                  <a:pt x="8791" y="14466"/>
                </a:cubicBezTo>
                <a:cubicBezTo>
                  <a:pt x="9173" y="14379"/>
                  <a:pt x="9650" y="14460"/>
                  <a:pt x="10041" y="14426"/>
                </a:cubicBezTo>
                <a:cubicBezTo>
                  <a:pt x="10332" y="14400"/>
                  <a:pt x="10626" y="14370"/>
                  <a:pt x="10914" y="14347"/>
                </a:cubicBezTo>
                <a:cubicBezTo>
                  <a:pt x="10934" y="14347"/>
                  <a:pt x="10954" y="14347"/>
                  <a:pt x="10974" y="14347"/>
                </a:cubicBezTo>
                <a:cubicBezTo>
                  <a:pt x="10939" y="14334"/>
                  <a:pt x="11011" y="14293"/>
                  <a:pt x="10974" y="14288"/>
                </a:cubicBezTo>
                <a:cubicBezTo>
                  <a:pt x="10842" y="14270"/>
                  <a:pt x="10714" y="14270"/>
                  <a:pt x="10577" y="14268"/>
                </a:cubicBezTo>
                <a:cubicBezTo>
                  <a:pt x="10037" y="14260"/>
                  <a:pt x="9463" y="14348"/>
                  <a:pt x="8930" y="14288"/>
                </a:cubicBezTo>
                <a:cubicBezTo>
                  <a:pt x="8833" y="14277"/>
                  <a:pt x="8965" y="14291"/>
                  <a:pt x="8989" y="14288"/>
                </a:cubicBezTo>
                <a:cubicBezTo>
                  <a:pt x="9108" y="14274"/>
                  <a:pt x="9223" y="14269"/>
                  <a:pt x="9346" y="14268"/>
                </a:cubicBezTo>
                <a:cubicBezTo>
                  <a:pt x="9578" y="14266"/>
                  <a:pt x="10212" y="14389"/>
                  <a:pt x="10398" y="14248"/>
                </a:cubicBezTo>
                <a:cubicBezTo>
                  <a:pt x="10490" y="14179"/>
                  <a:pt x="10456" y="14202"/>
                  <a:pt x="10378" y="14149"/>
                </a:cubicBezTo>
                <a:cubicBezTo>
                  <a:pt x="10273" y="14077"/>
                  <a:pt x="10175" y="14097"/>
                  <a:pt x="10061" y="14069"/>
                </a:cubicBezTo>
                <a:cubicBezTo>
                  <a:pt x="9821" y="14011"/>
                  <a:pt x="9589" y="14009"/>
                  <a:pt x="9346" y="13990"/>
                </a:cubicBezTo>
                <a:cubicBezTo>
                  <a:pt x="9342" y="13990"/>
                  <a:pt x="9142" y="13987"/>
                  <a:pt x="9148" y="13970"/>
                </a:cubicBezTo>
                <a:cubicBezTo>
                  <a:pt x="9167" y="13915"/>
                  <a:pt x="9241" y="13905"/>
                  <a:pt x="9287" y="13891"/>
                </a:cubicBezTo>
                <a:cubicBezTo>
                  <a:pt x="9415" y="13850"/>
                  <a:pt x="9608" y="13858"/>
                  <a:pt x="9743" y="13851"/>
                </a:cubicBezTo>
                <a:cubicBezTo>
                  <a:pt x="10026" y="13837"/>
                  <a:pt x="10313" y="13851"/>
                  <a:pt x="10597" y="13851"/>
                </a:cubicBezTo>
                <a:cubicBezTo>
                  <a:pt x="10079" y="13851"/>
                  <a:pt x="8542" y="13914"/>
                  <a:pt x="9049" y="13811"/>
                </a:cubicBezTo>
                <a:cubicBezTo>
                  <a:pt x="9298" y="13761"/>
                  <a:pt x="9621" y="13861"/>
                  <a:pt x="9842" y="13712"/>
                </a:cubicBezTo>
                <a:cubicBezTo>
                  <a:pt x="9846" y="13709"/>
                  <a:pt x="9941" y="13617"/>
                  <a:pt x="9942" y="13593"/>
                </a:cubicBezTo>
                <a:cubicBezTo>
                  <a:pt x="9945" y="13544"/>
                  <a:pt x="9937" y="13527"/>
                  <a:pt x="9902" y="13494"/>
                </a:cubicBezTo>
                <a:cubicBezTo>
                  <a:pt x="9892" y="13485"/>
                  <a:pt x="9759" y="13441"/>
                  <a:pt x="9743" y="13434"/>
                </a:cubicBezTo>
                <a:cubicBezTo>
                  <a:pt x="9645" y="13392"/>
                  <a:pt x="9539" y="13396"/>
                  <a:pt x="9446" y="13355"/>
                </a:cubicBezTo>
                <a:cubicBezTo>
                  <a:pt x="9425" y="13346"/>
                  <a:pt x="9292" y="13324"/>
                  <a:pt x="9307" y="13295"/>
                </a:cubicBezTo>
                <a:cubicBezTo>
                  <a:pt x="9406" y="13108"/>
                  <a:pt x="10114" y="13295"/>
                  <a:pt x="9902" y="13295"/>
                </a:cubicBezTo>
                <a:cubicBezTo>
                  <a:pt x="9678" y="13295"/>
                  <a:pt x="9451" y="13287"/>
                  <a:pt x="9227" y="13275"/>
                </a:cubicBezTo>
                <a:cubicBezTo>
                  <a:pt x="9118" y="13269"/>
                  <a:pt x="9012" y="13264"/>
                  <a:pt x="8910" y="13236"/>
                </a:cubicBezTo>
                <a:cubicBezTo>
                  <a:pt x="8884" y="13229"/>
                  <a:pt x="8956" y="13222"/>
                  <a:pt x="8930" y="13216"/>
                </a:cubicBezTo>
                <a:cubicBezTo>
                  <a:pt x="9011" y="13218"/>
                  <a:pt x="9372" y="13195"/>
                  <a:pt x="9386" y="13256"/>
                </a:cubicBezTo>
                <a:cubicBezTo>
                  <a:pt x="9400" y="13317"/>
                  <a:pt x="9311" y="13332"/>
                  <a:pt x="9307" y="13395"/>
                </a:cubicBezTo>
                <a:cubicBezTo>
                  <a:pt x="9301" y="13502"/>
                  <a:pt x="9255" y="13641"/>
                  <a:pt x="9307" y="13752"/>
                </a:cubicBezTo>
                <a:cubicBezTo>
                  <a:pt x="9369" y="13885"/>
                  <a:pt x="9570" y="14034"/>
                  <a:pt x="9684" y="14129"/>
                </a:cubicBezTo>
                <a:cubicBezTo>
                  <a:pt x="9919" y="14325"/>
                  <a:pt x="10159" y="14455"/>
                  <a:pt x="10438" y="14585"/>
                </a:cubicBezTo>
                <a:cubicBezTo>
                  <a:pt x="10610" y="14666"/>
                  <a:pt x="11752" y="14999"/>
                  <a:pt x="11787" y="15200"/>
                </a:cubicBezTo>
                <a:cubicBezTo>
                  <a:pt x="11790" y="15216"/>
                  <a:pt x="11703" y="15253"/>
                  <a:pt x="11688" y="15260"/>
                </a:cubicBezTo>
                <a:cubicBezTo>
                  <a:pt x="11119" y="15533"/>
                  <a:pt x="9976" y="15179"/>
                  <a:pt x="9366" y="15260"/>
                </a:cubicBezTo>
                <a:cubicBezTo>
                  <a:pt x="9158" y="15288"/>
                  <a:pt x="9031" y="15364"/>
                  <a:pt x="8850" y="15438"/>
                </a:cubicBezTo>
                <a:cubicBezTo>
                  <a:pt x="8870" y="15439"/>
                  <a:pt x="9000" y="15457"/>
                  <a:pt x="9049" y="15458"/>
                </a:cubicBezTo>
                <a:cubicBezTo>
                  <a:pt x="9869" y="15467"/>
                  <a:pt x="10689" y="15458"/>
                  <a:pt x="11509" y="15458"/>
                </a:cubicBezTo>
                <a:cubicBezTo>
                  <a:pt x="11363" y="15443"/>
                  <a:pt x="11221" y="15424"/>
                  <a:pt x="11073" y="15419"/>
                </a:cubicBezTo>
                <a:cubicBezTo>
                  <a:pt x="10040" y="15385"/>
                  <a:pt x="8987" y="15385"/>
                  <a:pt x="7957" y="15438"/>
                </a:cubicBezTo>
                <a:cubicBezTo>
                  <a:pt x="7951" y="15438"/>
                  <a:pt x="7944" y="15438"/>
                  <a:pt x="7938" y="15438"/>
                </a:cubicBezTo>
                <a:cubicBezTo>
                  <a:pt x="8091" y="15463"/>
                  <a:pt x="8250" y="15490"/>
                  <a:pt x="8414" y="15498"/>
                </a:cubicBezTo>
                <a:cubicBezTo>
                  <a:pt x="8763" y="15515"/>
                  <a:pt x="9118" y="15492"/>
                  <a:pt x="9465" y="15518"/>
                </a:cubicBezTo>
                <a:cubicBezTo>
                  <a:pt x="9909" y="15551"/>
                  <a:pt x="10376" y="15578"/>
                  <a:pt x="10815" y="15657"/>
                </a:cubicBezTo>
                <a:cubicBezTo>
                  <a:pt x="10910" y="15674"/>
                  <a:pt x="11008" y="15716"/>
                  <a:pt x="11093" y="15736"/>
                </a:cubicBezTo>
                <a:cubicBezTo>
                  <a:pt x="11030" y="15741"/>
                  <a:pt x="10962" y="15753"/>
                  <a:pt x="10894" y="15756"/>
                </a:cubicBezTo>
                <a:cubicBezTo>
                  <a:pt x="10584" y="15768"/>
                  <a:pt x="8648" y="15845"/>
                  <a:pt x="8652" y="15855"/>
                </a:cubicBezTo>
                <a:cubicBezTo>
                  <a:pt x="8677" y="15913"/>
                  <a:pt x="8828" y="15984"/>
                  <a:pt x="8870" y="16014"/>
                </a:cubicBezTo>
                <a:cubicBezTo>
                  <a:pt x="9184" y="16238"/>
                  <a:pt x="9569" y="16260"/>
                  <a:pt x="9942" y="16272"/>
                </a:cubicBezTo>
                <a:cubicBezTo>
                  <a:pt x="10265" y="16283"/>
                  <a:pt x="10574" y="16329"/>
                  <a:pt x="10894" y="16351"/>
                </a:cubicBezTo>
                <a:cubicBezTo>
                  <a:pt x="10916" y="16352"/>
                  <a:pt x="11295" y="16346"/>
                  <a:pt x="11192" y="16351"/>
                </a:cubicBezTo>
                <a:cubicBezTo>
                  <a:pt x="10742" y="16372"/>
                  <a:pt x="10292" y="16385"/>
                  <a:pt x="9842" y="16411"/>
                </a:cubicBezTo>
                <a:cubicBezTo>
                  <a:pt x="9743" y="16417"/>
                  <a:pt x="9284" y="16372"/>
                  <a:pt x="9227" y="16470"/>
                </a:cubicBezTo>
                <a:cubicBezTo>
                  <a:pt x="8982" y="16895"/>
                  <a:pt x="10207" y="16493"/>
                  <a:pt x="10696" y="16530"/>
                </a:cubicBezTo>
                <a:cubicBezTo>
                  <a:pt x="10981" y="16553"/>
                  <a:pt x="11832" y="16569"/>
                  <a:pt x="11549" y="16609"/>
                </a:cubicBezTo>
                <a:cubicBezTo>
                  <a:pt x="11455" y="16622"/>
                  <a:pt x="11318" y="16625"/>
                  <a:pt x="11212" y="16609"/>
                </a:cubicBezTo>
                <a:cubicBezTo>
                  <a:pt x="10863" y="16556"/>
                  <a:pt x="10536" y="16554"/>
                  <a:pt x="10180" y="16530"/>
                </a:cubicBezTo>
                <a:cubicBezTo>
                  <a:pt x="9770" y="16502"/>
                  <a:pt x="9213" y="16470"/>
                  <a:pt x="8870" y="16470"/>
                </a:cubicBezTo>
                <a:cubicBezTo>
                  <a:pt x="8883" y="16470"/>
                  <a:pt x="8897" y="16470"/>
                  <a:pt x="8910" y="16470"/>
                </a:cubicBezTo>
                <a:cubicBezTo>
                  <a:pt x="9526" y="16470"/>
                  <a:pt x="11268" y="16261"/>
                  <a:pt x="10735" y="16570"/>
                </a:cubicBezTo>
                <a:cubicBezTo>
                  <a:pt x="10515" y="16697"/>
                  <a:pt x="9483" y="16391"/>
                  <a:pt x="9406" y="16589"/>
                </a:cubicBezTo>
                <a:cubicBezTo>
                  <a:pt x="9381" y="16652"/>
                  <a:pt x="9520" y="16649"/>
                  <a:pt x="9585" y="16669"/>
                </a:cubicBezTo>
                <a:cubicBezTo>
                  <a:pt x="9753" y="16721"/>
                  <a:pt x="9906" y="16699"/>
                  <a:pt x="10081" y="16708"/>
                </a:cubicBezTo>
                <a:cubicBezTo>
                  <a:pt x="10247" y="16717"/>
                  <a:pt x="10433" y="16700"/>
                  <a:pt x="10597" y="16728"/>
                </a:cubicBezTo>
                <a:cubicBezTo>
                  <a:pt x="10639" y="16735"/>
                  <a:pt x="10455" y="16731"/>
                  <a:pt x="10438" y="16728"/>
                </a:cubicBezTo>
                <a:cubicBezTo>
                  <a:pt x="10200" y="16688"/>
                  <a:pt x="9985" y="16674"/>
                  <a:pt x="9743" y="16669"/>
                </a:cubicBezTo>
                <a:cubicBezTo>
                  <a:pt x="9584" y="16666"/>
                  <a:pt x="9426" y="16669"/>
                  <a:pt x="9267" y="16669"/>
                </a:cubicBezTo>
                <a:cubicBezTo>
                  <a:pt x="9327" y="16669"/>
                  <a:pt x="9108" y="16669"/>
                  <a:pt x="9168" y="16669"/>
                </a:cubicBezTo>
                <a:cubicBezTo>
                  <a:pt x="9320" y="16669"/>
                  <a:pt x="9737" y="16669"/>
                  <a:pt x="9585" y="16669"/>
                </a:cubicBezTo>
                <a:cubicBezTo>
                  <a:pt x="9512" y="16669"/>
                  <a:pt x="9141" y="16686"/>
                  <a:pt x="9188" y="16728"/>
                </a:cubicBezTo>
                <a:cubicBezTo>
                  <a:pt x="9250" y="16784"/>
                  <a:pt x="9904" y="16655"/>
                  <a:pt x="9902" y="16768"/>
                </a:cubicBezTo>
                <a:cubicBezTo>
                  <a:pt x="9902" y="16774"/>
                  <a:pt x="9902" y="16759"/>
                  <a:pt x="9842" y="16768"/>
                </a:cubicBezTo>
                <a:cubicBezTo>
                  <a:pt x="9758" y="16781"/>
                  <a:pt x="9446" y="16759"/>
                  <a:pt x="9446" y="16768"/>
                </a:cubicBezTo>
                <a:cubicBezTo>
                  <a:pt x="9446" y="16818"/>
                  <a:pt x="9632" y="16792"/>
                  <a:pt x="9585" y="16808"/>
                </a:cubicBezTo>
                <a:cubicBezTo>
                  <a:pt x="9558" y="16817"/>
                  <a:pt x="9574" y="16827"/>
                  <a:pt x="9545" y="16828"/>
                </a:cubicBezTo>
                <a:cubicBezTo>
                  <a:pt x="9399" y="16834"/>
                  <a:pt x="8974" y="16866"/>
                  <a:pt x="9108" y="16808"/>
                </a:cubicBezTo>
                <a:cubicBezTo>
                  <a:pt x="9202" y="16767"/>
                  <a:pt x="9358" y="16789"/>
                  <a:pt x="9465" y="16788"/>
                </a:cubicBezTo>
                <a:cubicBezTo>
                  <a:pt x="9935" y="16784"/>
                  <a:pt x="10404" y="16788"/>
                  <a:pt x="10874" y="16788"/>
                </a:cubicBezTo>
                <a:cubicBezTo>
                  <a:pt x="11053" y="16788"/>
                  <a:pt x="11549" y="16788"/>
                  <a:pt x="11370" y="16788"/>
                </a:cubicBezTo>
                <a:cubicBezTo>
                  <a:pt x="10918" y="16788"/>
                  <a:pt x="9638" y="16929"/>
                  <a:pt x="10061" y="16768"/>
                </a:cubicBezTo>
                <a:cubicBezTo>
                  <a:pt x="10610" y="16559"/>
                  <a:pt x="11679" y="16728"/>
                  <a:pt x="12244" y="16728"/>
                </a:cubicBezTo>
                <a:cubicBezTo>
                  <a:pt x="12306" y="16728"/>
                  <a:pt x="13338" y="16813"/>
                  <a:pt x="13395" y="16708"/>
                </a:cubicBezTo>
                <a:cubicBezTo>
                  <a:pt x="13429" y="16646"/>
                  <a:pt x="13336" y="16678"/>
                  <a:pt x="13295" y="16669"/>
                </a:cubicBezTo>
                <a:cubicBezTo>
                  <a:pt x="12444" y="16474"/>
                  <a:pt x="9882" y="16669"/>
                  <a:pt x="10755" y="16669"/>
                </a:cubicBezTo>
                <a:cubicBezTo>
                  <a:pt x="10854" y="16669"/>
                  <a:pt x="10954" y="16669"/>
                  <a:pt x="11053" y="16669"/>
                </a:cubicBezTo>
                <a:cubicBezTo>
                  <a:pt x="11333" y="16640"/>
                  <a:pt x="11601" y="16629"/>
                  <a:pt x="11886" y="16629"/>
                </a:cubicBezTo>
                <a:cubicBezTo>
                  <a:pt x="12680" y="16629"/>
                  <a:pt x="13474" y="16629"/>
                  <a:pt x="14268" y="16629"/>
                </a:cubicBezTo>
                <a:cubicBezTo>
                  <a:pt x="14469" y="16629"/>
                  <a:pt x="14381" y="16629"/>
                  <a:pt x="14248" y="16629"/>
                </a:cubicBezTo>
                <a:cubicBezTo>
                  <a:pt x="13018" y="16629"/>
                  <a:pt x="9367" y="16649"/>
                  <a:pt x="10597" y="16649"/>
                </a:cubicBezTo>
                <a:cubicBezTo>
                  <a:pt x="10975" y="16649"/>
                  <a:pt x="11350" y="16666"/>
                  <a:pt x="11728" y="16669"/>
                </a:cubicBezTo>
                <a:cubicBezTo>
                  <a:pt x="12403" y="16675"/>
                  <a:pt x="13077" y="16689"/>
                  <a:pt x="13752" y="16689"/>
                </a:cubicBezTo>
                <a:cubicBezTo>
                  <a:pt x="13884" y="16689"/>
                  <a:pt x="14201" y="16689"/>
                  <a:pt x="14069" y="16689"/>
                </a:cubicBezTo>
                <a:cubicBezTo>
                  <a:pt x="13963" y="16689"/>
                  <a:pt x="13858" y="16689"/>
                  <a:pt x="13752" y="16689"/>
                </a:cubicBezTo>
                <a:cubicBezTo>
                  <a:pt x="12914" y="16689"/>
                  <a:pt x="11050" y="16307"/>
                  <a:pt x="10398" y="16728"/>
                </a:cubicBezTo>
                <a:cubicBezTo>
                  <a:pt x="9492" y="17313"/>
                  <a:pt x="12555" y="16728"/>
                  <a:pt x="13633" y="16728"/>
                </a:cubicBezTo>
                <a:cubicBezTo>
                  <a:pt x="13851" y="16728"/>
                  <a:pt x="14466" y="16728"/>
                  <a:pt x="14248" y="16728"/>
                </a:cubicBezTo>
                <a:cubicBezTo>
                  <a:pt x="13419" y="16728"/>
                  <a:pt x="12596" y="16673"/>
                  <a:pt x="11767" y="16669"/>
                </a:cubicBezTo>
                <a:cubicBezTo>
                  <a:pt x="11377" y="16667"/>
                  <a:pt x="10987" y="16669"/>
                  <a:pt x="10597" y="16669"/>
                </a:cubicBezTo>
                <a:cubicBezTo>
                  <a:pt x="10639" y="16687"/>
                  <a:pt x="10707" y="16752"/>
                  <a:pt x="10775" y="16768"/>
                </a:cubicBezTo>
                <a:cubicBezTo>
                  <a:pt x="11016" y="16825"/>
                  <a:pt x="11261" y="16843"/>
                  <a:pt x="11509" y="16847"/>
                </a:cubicBezTo>
                <a:cubicBezTo>
                  <a:pt x="12523" y="16863"/>
                  <a:pt x="13552" y="16888"/>
                  <a:pt x="14565" y="16867"/>
                </a:cubicBezTo>
                <a:cubicBezTo>
                  <a:pt x="14726" y="16864"/>
                  <a:pt x="14781" y="16892"/>
                  <a:pt x="14625" y="16847"/>
                </a:cubicBezTo>
                <a:cubicBezTo>
                  <a:pt x="14441" y="16794"/>
                  <a:pt x="14199" y="16781"/>
                  <a:pt x="14010" y="16768"/>
                </a:cubicBezTo>
                <a:cubicBezTo>
                  <a:pt x="13546" y="16736"/>
                  <a:pt x="13064" y="16736"/>
                  <a:pt x="12601" y="16728"/>
                </a:cubicBezTo>
                <a:cubicBezTo>
                  <a:pt x="12376" y="16724"/>
                  <a:pt x="12151" y="16728"/>
                  <a:pt x="11926" y="16728"/>
                </a:cubicBezTo>
                <a:cubicBezTo>
                  <a:pt x="12854" y="16728"/>
                  <a:pt x="13778" y="16709"/>
                  <a:pt x="14704" y="16649"/>
                </a:cubicBezTo>
                <a:cubicBezTo>
                  <a:pt x="15247" y="16614"/>
                  <a:pt x="15792" y="16603"/>
                  <a:pt x="16331" y="16550"/>
                </a:cubicBezTo>
                <a:cubicBezTo>
                  <a:pt x="16470" y="16534"/>
                  <a:pt x="16490" y="16528"/>
                  <a:pt x="16570" y="16530"/>
                </a:cubicBezTo>
                <a:cubicBezTo>
                  <a:pt x="16525" y="16521"/>
                  <a:pt x="16477" y="16475"/>
                  <a:pt x="16391" y="16470"/>
                </a:cubicBezTo>
                <a:cubicBezTo>
                  <a:pt x="15769" y="16431"/>
                  <a:pt x="15128" y="16436"/>
                  <a:pt x="14506" y="16431"/>
                </a:cubicBezTo>
                <a:cubicBezTo>
                  <a:pt x="13180" y="16421"/>
                  <a:pt x="11836" y="16495"/>
                  <a:pt x="10517" y="16391"/>
                </a:cubicBezTo>
                <a:cubicBezTo>
                  <a:pt x="10491" y="16391"/>
                  <a:pt x="10464" y="16391"/>
                  <a:pt x="10438" y="16391"/>
                </a:cubicBezTo>
                <a:cubicBezTo>
                  <a:pt x="10529" y="16398"/>
                  <a:pt x="10651" y="16410"/>
                  <a:pt x="10755" y="16411"/>
                </a:cubicBezTo>
                <a:cubicBezTo>
                  <a:pt x="11008" y="16413"/>
                  <a:pt x="12935" y="16442"/>
                  <a:pt x="12938" y="16411"/>
                </a:cubicBezTo>
                <a:cubicBezTo>
                  <a:pt x="12939" y="16404"/>
                  <a:pt x="12747" y="16372"/>
                  <a:pt x="12740" y="16371"/>
                </a:cubicBezTo>
                <a:cubicBezTo>
                  <a:pt x="12499" y="16322"/>
                  <a:pt x="12253" y="16314"/>
                  <a:pt x="12005" y="16312"/>
                </a:cubicBezTo>
                <a:cubicBezTo>
                  <a:pt x="11478" y="16308"/>
                  <a:pt x="10434" y="16312"/>
                  <a:pt x="10120" y="16292"/>
                </a:cubicBezTo>
                <a:cubicBezTo>
                  <a:pt x="10387" y="16260"/>
                  <a:pt x="10641" y="16252"/>
                  <a:pt x="10914" y="16252"/>
                </a:cubicBezTo>
                <a:cubicBezTo>
                  <a:pt x="11697" y="16252"/>
                  <a:pt x="12475" y="16238"/>
                  <a:pt x="13256" y="16212"/>
                </a:cubicBezTo>
                <a:cubicBezTo>
                  <a:pt x="13631" y="16200"/>
                  <a:pt x="14018" y="16255"/>
                  <a:pt x="14387" y="16173"/>
                </a:cubicBezTo>
                <a:cubicBezTo>
                  <a:pt x="14415" y="16167"/>
                  <a:pt x="14619" y="16127"/>
                  <a:pt x="14585" y="16093"/>
                </a:cubicBezTo>
                <a:cubicBezTo>
                  <a:pt x="14450" y="15957"/>
                  <a:pt x="13244" y="16075"/>
                  <a:pt x="13057" y="16133"/>
                </a:cubicBezTo>
                <a:cubicBezTo>
                  <a:pt x="13006" y="16149"/>
                  <a:pt x="13168" y="16157"/>
                  <a:pt x="13117" y="16173"/>
                </a:cubicBezTo>
                <a:cubicBezTo>
                  <a:pt x="13906" y="16173"/>
                  <a:pt x="14692" y="16133"/>
                  <a:pt x="15478" y="16133"/>
                </a:cubicBezTo>
                <a:cubicBezTo>
                  <a:pt x="15662" y="16133"/>
                  <a:pt x="15877" y="16156"/>
                  <a:pt x="16054" y="16113"/>
                </a:cubicBezTo>
                <a:cubicBezTo>
                  <a:pt x="16096" y="16103"/>
                  <a:pt x="16116" y="16109"/>
                  <a:pt x="16054" y="16093"/>
                </a:cubicBezTo>
                <a:cubicBezTo>
                  <a:pt x="15804" y="16027"/>
                  <a:pt x="15519" y="16153"/>
                  <a:pt x="15280" y="16173"/>
                </a:cubicBezTo>
                <a:cubicBezTo>
                  <a:pt x="15229" y="16177"/>
                  <a:pt x="14853" y="16211"/>
                  <a:pt x="14863" y="16133"/>
                </a:cubicBezTo>
                <a:cubicBezTo>
                  <a:pt x="14869" y="16089"/>
                  <a:pt x="15115" y="15958"/>
                  <a:pt x="15141" y="15935"/>
                </a:cubicBezTo>
                <a:cubicBezTo>
                  <a:pt x="15271" y="15823"/>
                  <a:pt x="15407" y="15725"/>
                  <a:pt x="15518" y="15597"/>
                </a:cubicBezTo>
                <a:cubicBezTo>
                  <a:pt x="15562" y="15546"/>
                  <a:pt x="15699" y="15456"/>
                  <a:pt x="15657" y="15359"/>
                </a:cubicBezTo>
                <a:cubicBezTo>
                  <a:pt x="15627" y="15290"/>
                  <a:pt x="15608" y="15276"/>
                  <a:pt x="15538" y="15240"/>
                </a:cubicBezTo>
                <a:cubicBezTo>
                  <a:pt x="15148" y="15040"/>
                  <a:pt x="13886" y="15231"/>
                  <a:pt x="13593" y="15458"/>
                </a:cubicBezTo>
                <a:cubicBezTo>
                  <a:pt x="13393" y="15613"/>
                  <a:pt x="13562" y="15535"/>
                  <a:pt x="13514" y="15617"/>
                </a:cubicBezTo>
                <a:cubicBezTo>
                  <a:pt x="13527" y="15617"/>
                  <a:pt x="13540" y="15617"/>
                  <a:pt x="13553" y="15617"/>
                </a:cubicBezTo>
                <a:cubicBezTo>
                  <a:pt x="14135" y="15594"/>
                  <a:pt x="14724" y="15496"/>
                  <a:pt x="15300" y="15419"/>
                </a:cubicBezTo>
                <a:cubicBezTo>
                  <a:pt x="15442" y="15400"/>
                  <a:pt x="15610" y="15342"/>
                  <a:pt x="15756" y="15359"/>
                </a:cubicBezTo>
                <a:cubicBezTo>
                  <a:pt x="15841" y="15369"/>
                  <a:pt x="15709" y="15395"/>
                  <a:pt x="15677" y="15399"/>
                </a:cubicBezTo>
                <a:cubicBezTo>
                  <a:pt x="15357" y="15437"/>
                  <a:pt x="15006" y="15399"/>
                  <a:pt x="14684" y="15399"/>
                </a:cubicBezTo>
                <a:cubicBezTo>
                  <a:pt x="14510" y="15433"/>
                  <a:pt x="14130" y="15417"/>
                  <a:pt x="14208" y="15577"/>
                </a:cubicBezTo>
                <a:cubicBezTo>
                  <a:pt x="14242" y="15646"/>
                  <a:pt x="14403" y="15613"/>
                  <a:pt x="14466" y="15617"/>
                </a:cubicBezTo>
                <a:cubicBezTo>
                  <a:pt x="14752" y="15633"/>
                  <a:pt x="15056" y="15608"/>
                  <a:pt x="15339" y="15577"/>
                </a:cubicBezTo>
                <a:cubicBezTo>
                  <a:pt x="15675" y="15541"/>
                  <a:pt x="16013" y="15496"/>
                  <a:pt x="16351" y="15478"/>
                </a:cubicBezTo>
                <a:cubicBezTo>
                  <a:pt x="16478" y="15471"/>
                  <a:pt x="16623" y="15388"/>
                  <a:pt x="16728" y="15458"/>
                </a:cubicBezTo>
                <a:cubicBezTo>
                  <a:pt x="16813" y="15515"/>
                  <a:pt x="16534" y="15519"/>
                  <a:pt x="16450" y="15577"/>
                </a:cubicBezTo>
                <a:cubicBezTo>
                  <a:pt x="16332" y="15658"/>
                  <a:pt x="16223" y="15746"/>
                  <a:pt x="16093" y="15815"/>
                </a:cubicBezTo>
                <a:cubicBezTo>
                  <a:pt x="15918" y="15908"/>
                  <a:pt x="15751" y="15947"/>
                  <a:pt x="15617" y="16093"/>
                </a:cubicBezTo>
                <a:cubicBezTo>
                  <a:pt x="15555" y="16160"/>
                  <a:pt x="15503" y="16120"/>
                  <a:pt x="15538" y="16173"/>
                </a:cubicBezTo>
                <a:cubicBezTo>
                  <a:pt x="15577" y="16232"/>
                  <a:pt x="16007" y="16135"/>
                  <a:pt x="16054" y="16133"/>
                </a:cubicBezTo>
                <a:cubicBezTo>
                  <a:pt x="16259" y="16125"/>
                  <a:pt x="16588" y="15928"/>
                  <a:pt x="16589" y="16133"/>
                </a:cubicBezTo>
                <a:cubicBezTo>
                  <a:pt x="16589" y="16156"/>
                  <a:pt x="16473" y="16190"/>
                  <a:pt x="16470" y="16192"/>
                </a:cubicBezTo>
                <a:cubicBezTo>
                  <a:pt x="16403" y="16226"/>
                  <a:pt x="16360" y="16242"/>
                  <a:pt x="16292" y="16272"/>
                </a:cubicBezTo>
                <a:cubicBezTo>
                  <a:pt x="16279" y="16279"/>
                  <a:pt x="16265" y="16285"/>
                  <a:pt x="16252" y="16292"/>
                </a:cubicBezTo>
                <a:cubicBezTo>
                  <a:pt x="16186" y="16292"/>
                  <a:pt x="16169" y="16345"/>
                  <a:pt x="16093" y="16331"/>
                </a:cubicBezTo>
                <a:cubicBezTo>
                  <a:pt x="15969" y="16308"/>
                  <a:pt x="15847" y="16269"/>
                  <a:pt x="15716" y="16252"/>
                </a:cubicBezTo>
                <a:cubicBezTo>
                  <a:pt x="15218" y="16186"/>
                  <a:pt x="14731" y="16089"/>
                  <a:pt x="14228" y="16034"/>
                </a:cubicBezTo>
                <a:cubicBezTo>
                  <a:pt x="13467" y="15951"/>
                  <a:pt x="12711" y="15894"/>
                  <a:pt x="11946" y="15875"/>
                </a:cubicBezTo>
                <a:cubicBezTo>
                  <a:pt x="10630" y="15842"/>
                  <a:pt x="6839" y="15875"/>
                  <a:pt x="8156" y="15875"/>
                </a:cubicBezTo>
                <a:cubicBezTo>
                  <a:pt x="8301" y="15875"/>
                  <a:pt x="8367" y="15875"/>
                  <a:pt x="8473" y="15875"/>
                </a:cubicBezTo>
                <a:cubicBezTo>
                  <a:pt x="9836" y="15875"/>
                  <a:pt x="13884" y="15875"/>
                  <a:pt x="12521" y="15875"/>
                </a:cubicBezTo>
                <a:cubicBezTo>
                  <a:pt x="12395" y="15875"/>
                  <a:pt x="12270" y="15875"/>
                  <a:pt x="12144" y="15875"/>
                </a:cubicBezTo>
              </a:path>
            </a:pathLst>
          </a:custGeom>
          <a:noFill/>
          <a:ln cap="sq" w="228600">
            <a:solidFill>
              <a:srgbClr val="0000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400720" y="4714920"/>
            <a:ext cx="36360" cy="1440"/>
          </a:xfrm>
          <a:custGeom>
            <a:avLst/>
            <a:gdLst/>
            <a:ahLst/>
            <a:rect l="l" t="t" r="r" b="b"/>
            <a:pathLst>
              <a:path w="100" h="1">
                <a:moveTo>
                  <a:pt x="15002" y="13097"/>
                </a:moveTo>
                <a:cubicBezTo>
                  <a:pt x="15035" y="13097"/>
                  <a:pt x="15068" y="13097"/>
                  <a:pt x="15101" y="13097"/>
                </a:cubicBezTo>
              </a:path>
            </a:pathLst>
          </a:custGeom>
          <a:noFill/>
          <a:ln cap="sq" w="228600">
            <a:solidFill>
              <a:srgbClr val="0000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 name=""/>
          <p:cNvSpPr/>
          <p:nvPr/>
        </p:nvSpPr>
        <p:spPr>
          <a:xfrm>
            <a:off x="5886360" y="5157720"/>
            <a:ext cx="1800" cy="1800"/>
          </a:xfrm>
          <a:custGeom>
            <a:avLst/>
            <a:gdLst/>
            <a:ahLst/>
            <a:rect l="l" t="t" r="r" b="b"/>
            <a:pathLst>
              <a:path w="1" h="1">
                <a:moveTo>
                  <a:pt x="16351" y="14327"/>
                </a:moveTo>
                <a:lnTo>
                  <a:pt x="16351" y="14327"/>
                </a:lnTo>
              </a:path>
            </a:pathLst>
          </a:custGeom>
          <a:noFill/>
          <a:ln cap="sq" w="228600">
            <a:solidFill>
              <a:srgbClr val="00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pulation And Population Density</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has about 20,905,585 people in its borders and it is a Dens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vernment</a:t>
            </a:r>
            <a:endParaRPr b="0" lang="en-US" sz="4400" spc="-1" strike="noStrike">
              <a:solidFill>
                <a:srgbClr val="ffffff"/>
              </a:solidFill>
              <a:latin typeface="Times New Roman"/>
            </a:endParaRPr>
          </a:p>
        </p:txBody>
      </p:sp>
      <p:sp>
        <p:nvSpPr>
          <p:cNvPr id="19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The Mozambique Government is multi party republic. This means that it has democracy and republic governments in the country</a:t>
            </a:r>
            <a:r>
              <a:rPr b="0" lang="en-US" sz="3100" spc="-1" strike="noStrike">
                <a:solidFill>
                  <a:srgbClr val="ffffff"/>
                </a:solidFill>
                <a:latin typeface="Arial"/>
              </a:rPr>
              <a:t>.</a:t>
            </a:r>
            <a:endParaRPr b="0" lang="en-US" sz="3100" spc="-1" strike="noStrike">
              <a:solidFill>
                <a:srgbClr val="ffffff"/>
              </a:solidFill>
              <a:latin typeface="Arial"/>
            </a:endParaRPr>
          </a:p>
        </p:txBody>
      </p:sp>
      <p:pic>
        <p:nvPicPr>
          <p:cNvPr id="192" name="" descr=""/>
          <p:cNvPicPr/>
          <p:nvPr/>
        </p:nvPicPr>
        <p:blipFill>
          <a:blip r:embed="rId1"/>
          <a:stretch/>
        </p:blipFill>
        <p:spPr>
          <a:xfrm>
            <a:off x="3276720" y="3260880"/>
            <a:ext cx="3733560" cy="252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igion</a:t>
            </a: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0000"/>
                </a:solidFill>
                <a:latin typeface="Arial"/>
              </a:rPr>
              <a:t>Mozambique 24%, Islam 18%, Zionist Christian 18%, none 23%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5" name="" descr=""/>
          <p:cNvPicPr/>
          <p:nvPr/>
        </p:nvPicPr>
        <p:blipFill>
          <a:blip r:embed="rId1"/>
          <a:stretch/>
        </p:blipFill>
        <p:spPr>
          <a:xfrm>
            <a:off x="3581280" y="3505320"/>
            <a:ext cx="3372120" cy="25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ights</a:t>
            </a:r>
            <a:endParaRPr b="0" lang="en-US" sz="4400" spc="-1" strike="noStrike">
              <a:solidFill>
                <a:srgbClr val="ffffff"/>
              </a:solidFill>
              <a:latin typeface="Times New Roman"/>
            </a:endParaRPr>
          </a:p>
        </p:txBody>
      </p:sp>
      <p:sp>
        <p:nvSpPr>
          <p:cNvPr id="1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3:10:54Z</dcterms:created>
  <dc:creator>curtishickerson</dc:creator>
  <dc:description/>
  <dc:language>en-US</dc:language>
  <cp:lastModifiedBy>LCS_user</cp:lastModifiedBy>
  <dcterms:modified xsi:type="dcterms:W3CDTF">2008-11-12T14:19:05Z</dcterms:modified>
  <cp:revision>7</cp:revision>
  <dc:subject/>
  <dc:title>Mozambique</dc:title>
</cp:coreProperties>
</file>